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2.jpeg" ContentType="image/jpeg"/>
  <Override PartName="/ppt/media/image39.png" ContentType="image/png"/>
  <Override PartName="/ppt/media/image4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49.jpeg" ContentType="image/jpe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3.png" ContentType="image/png"/>
  <Override PartName="/ppt/media/image13.jpeg" ContentType="image/jpeg"/>
  <Override PartName="/ppt/media/image44.png" ContentType="image/png"/>
  <Override PartName="/ppt/media/image28.wmf" ContentType="image/x-wmf"/>
  <Override PartName="/ppt/media/image5.wmf" ContentType="image/x-wmf"/>
  <Override PartName="/ppt/media/image25.png" ContentType="image/png"/>
  <Override PartName="/ppt/media/image31.wmf" ContentType="image/x-wmf"/>
  <Override PartName="/ppt/media/image46.png" ContentType="image/png"/>
  <Override PartName="/ppt/media/image6.wmf" ContentType="image/x-wmf"/>
  <Override PartName="/ppt/media/image36.png" ContentType="image/png"/>
  <Override PartName="/ppt/media/image37.png" ContentType="image/png"/>
  <Override PartName="/ppt/media/image38.png" ContentType="image/png"/>
  <Override PartName="/ppt/media/image43.png" ContentType="image/png"/>
  <Override PartName="/ppt/media/image32.wmf" ContentType="image/x-wmf"/>
  <Override PartName="/ppt/media/image20.jpeg" ContentType="image/jpeg"/>
  <Override PartName="/ppt/media/image45.png" ContentType="image/png"/>
  <Override PartName="/ppt/media/image33.wmf" ContentType="image/x-wmf"/>
  <Override PartName="/ppt/media/image50.jpeg" ContentType="image/jpeg"/>
  <Override PartName="/ppt/media/image40.png" ContentType="image/png"/>
  <Override PartName="/ppt/media/image8.wmf" ContentType="image/x-wmf"/>
  <Override PartName="/ppt/media/image34.wmf" ContentType="image/x-wmf"/>
  <Override PartName="/ppt/media/image41.png" ContentType="image/png"/>
  <Override PartName="/ppt/media/image9.wmf" ContentType="image/x-wmf"/>
  <Override PartName="/ppt/media/image35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4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7.wmf" ContentType="image/x-wmf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288588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00120" y="744480"/>
            <a:ext cx="558000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48AC943E-ACC7-4A5B-8610-3379C755CC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601560" y="744480"/>
            <a:ext cx="5578560" cy="3719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601560" y="744480"/>
            <a:ext cx="5578560" cy="371952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601560" y="744480"/>
            <a:ext cx="5578560" cy="371952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t-contrast: tests for single dimension in parameter 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F-contrast: tests for multiple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ference at first or second level (fixed or random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over conditions or groups: main effect, difference, intera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verage over tim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arametric modulation with extrinsic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ower comparison in time-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601560" y="744480"/>
            <a:ext cx="5578560" cy="371952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5200" cy="4462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the same way like SPM for fM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Use SPM2‘s method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However, model needs to be adapted to make proper i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Comparison with fMRI analysis to aid illu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Also, conventional model (to be shown) in the same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84A-BE4D-4DD8-BC25-B9C38EAE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EEE-DB8F-4439-A3B2-5CFAFD01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D7D-4295-4191-B613-26CBB9AC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67F-2760-48C9-A890-AEB5ABF1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D54-C666-4FA1-8191-8EEEAD21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32F-C4B2-4224-8E98-37134D03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0B7-F320-4F80-BC4A-4592255E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4DB8-27A0-48D3-82E2-9D7FE0A6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38A-B3E2-473F-AB63-321C7525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5C5-0044-4ECC-A038-470C34EC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780-EEE6-4A70-B679-14D6EB3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D52-E001-4D3D-A7D8-4695B997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D92-A864-4E13-9990-39935F9BB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20.jpe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99840"/>
            <a:ext cx="8743680" cy="1368360"/>
          </a:xfrm>
          <a:prstGeom prst="rect">
            <a:avLst/>
          </a:prstGeom>
          <a:solidFill>
            <a:srgbClr val="e6e6e6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Causal Modelling (DCM) for fM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28880" y="5837040"/>
            <a:ext cx="5229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Wellcom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ust Centre for Neuro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versity College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2880" y="32940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re Marrei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8840" y="4114800"/>
            <a:ext cx="9599400" cy="96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058240" y="5808600"/>
            <a:ext cx="822240" cy="973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47880" y="5753160"/>
            <a:ext cx="9810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3680" y="-152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dynamics: reciprocal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536840" y="5824440"/>
          <a:ext cx="750888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5824440"/>
                    <a:ext cx="75088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844880" y="1700280"/>
            <a:ext cx="5235840" cy="3778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010480" y="2708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10480" y="19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85000" y="35766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85000" y="444024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64240" y="3573360"/>
            <a:ext cx="2244960" cy="180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5"/>
            <a:endCxn id="235" idx="0"/>
          </p:cNvCxnSpPr>
          <p:nvPr/>
        </p:nvCxnSpPr>
        <p:spPr>
          <a:xfrm>
            <a:off x="8480160" y="5129280"/>
            <a:ext cx="454680" cy="218160"/>
          </a:xfrm>
          <a:prstGeom prst="straightConnector1">
            <a:avLst/>
          </a:prstGeom>
          <a:ln w="12600">
            <a:solidFill>
              <a:srgbClr val="ff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7602480" y="5346720"/>
            <a:ext cx="266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iprocal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closed by u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96880" y="307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96880" y="438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67800" y="230364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6" idx="3"/>
            <a:endCxn id="237" idx="1"/>
          </p:cNvCxnSpPr>
          <p:nvPr/>
        </p:nvCxnSpPr>
        <p:spPr>
          <a:xfrm flipV="1" rot="10800000">
            <a:off x="1573920" y="3530160"/>
            <a:ext cx="1080" cy="930960"/>
          </a:xfrm>
          <a:prstGeom prst="curvedConnector2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7"/>
            <a:endCxn id="236" idx="5"/>
          </p:cNvCxnSpPr>
          <p:nvPr/>
        </p:nvCxnSpPr>
        <p:spPr>
          <a:xfrm flipV="1">
            <a:off x="1952280" y="3530160"/>
            <a:ext cx="1080" cy="930960"/>
          </a:xfrm>
          <a:prstGeom prst="curved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8" idx="2"/>
            <a:endCxn id="236" idx="0"/>
          </p:cNvCxnSpPr>
          <p:nvPr/>
        </p:nvCxnSpPr>
        <p:spPr>
          <a:xfrm>
            <a:off x="1754280" y="2639520"/>
            <a:ext cx="10080" cy="4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797040" y="3341520"/>
            <a:ext cx="768240" cy="632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400" y="294624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18200" y="3098880"/>
            <a:ext cx="35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84360" y="440676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226120" y="2276640"/>
            <a:ext cx="4565520" cy="34574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536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aemodynamics: reciprocal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539200" y="5594400"/>
            <a:ext cx="1747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blue:</a:t>
            </a:r>
            <a:r>
              <a:rPr b="0" lang="en-GB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neurona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red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bold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68480" y="307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61360" y="30830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8480" y="438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3960" y="4403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96880" y="307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96880" y="438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3" idx="3"/>
            <a:endCxn id="254" idx="1"/>
          </p:cNvCxnSpPr>
          <p:nvPr/>
        </p:nvCxnSpPr>
        <p:spPr>
          <a:xfrm flipV="1" rot="10800000">
            <a:off x="1573920" y="3530160"/>
            <a:ext cx="1080" cy="930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4" idx="7"/>
            <a:endCxn id="253" idx="5"/>
          </p:cNvCxnSpPr>
          <p:nvPr/>
        </p:nvCxnSpPr>
        <p:spPr>
          <a:xfrm flipV="1">
            <a:off x="1952280" y="3530160"/>
            <a:ext cx="1080" cy="930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endCxn id="253" idx="0"/>
          </p:cNvCxnSpPr>
          <p:nvPr/>
        </p:nvCxnSpPr>
        <p:spPr>
          <a:xfrm>
            <a:off x="1755720" y="2639520"/>
            <a:ext cx="8640" cy="4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797040" y="3332160"/>
            <a:ext cx="777600" cy="65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3" idx="6"/>
            <a:endCxn id="249" idx="2"/>
          </p:cNvCxnSpPr>
          <p:nvPr/>
        </p:nvCxnSpPr>
        <p:spPr>
          <a:xfrm>
            <a:off x="2030400" y="3341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4" idx="6"/>
            <a:endCxn id="251" idx="2"/>
          </p:cNvCxnSpPr>
          <p:nvPr/>
        </p:nvCxnSpPr>
        <p:spPr>
          <a:xfrm>
            <a:off x="2030400" y="464940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1567800" y="230364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400" y="294624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18200" y="3098880"/>
            <a:ext cx="35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84360" y="440676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72360" y="5997600"/>
            <a:ext cx="65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(u,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presents the BOLD response (balloon model) to in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226120" y="1073160"/>
            <a:ext cx="4559400" cy="14191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212720" y="2662200"/>
            <a:ext cx="1149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00"/>
                </a:solidFill>
                <a:latin typeface="Times New Roman"/>
              </a:rPr>
              <a:t>B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(without noi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04800" y="4251240"/>
            <a:ext cx="1149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00"/>
                </a:solidFill>
                <a:latin typeface="Times New Roman"/>
              </a:rPr>
              <a:t>B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(without noi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226120" y="2276640"/>
            <a:ext cx="4565520" cy="34477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36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aemodynamics: reciprocal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226120" y="1076400"/>
            <a:ext cx="4559400" cy="14191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271760" y="2654280"/>
            <a:ext cx="10342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00"/>
                </a:solidFill>
                <a:latin typeface="Times New Roman"/>
              </a:rPr>
              <a:t>B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00"/>
                </a:solidFill>
                <a:latin typeface="Times New Roman"/>
              </a:rPr>
              <a:t>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Noise</a:t>
            </a: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 ad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73200" y="4299120"/>
            <a:ext cx="10342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00"/>
                </a:solidFill>
                <a:latin typeface="Times New Roman"/>
              </a:rPr>
              <a:t>B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00"/>
                </a:solidFill>
                <a:latin typeface="Times New Roman"/>
              </a:rPr>
              <a:t>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Noise</a:t>
            </a: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 ad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68480" y="307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61720" y="308304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68480" y="438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4320" y="440388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96880" y="307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96880" y="438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8" idx="3"/>
            <a:endCxn id="279" idx="1"/>
          </p:cNvCxnSpPr>
          <p:nvPr/>
        </p:nvCxnSpPr>
        <p:spPr>
          <a:xfrm flipV="1" rot="10800000">
            <a:off x="1573920" y="3530160"/>
            <a:ext cx="1080" cy="930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9" idx="7"/>
            <a:endCxn id="278" idx="5"/>
          </p:cNvCxnSpPr>
          <p:nvPr/>
        </p:nvCxnSpPr>
        <p:spPr>
          <a:xfrm flipV="1">
            <a:off x="1952280" y="3530160"/>
            <a:ext cx="1080" cy="930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endCxn id="278" idx="0"/>
          </p:cNvCxnSpPr>
          <p:nvPr/>
        </p:nvCxnSpPr>
        <p:spPr>
          <a:xfrm>
            <a:off x="1755720" y="2639520"/>
            <a:ext cx="8640" cy="4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797040" y="3332160"/>
            <a:ext cx="777600" cy="65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78" idx="6"/>
            <a:endCxn id="274" idx="2"/>
          </p:cNvCxnSpPr>
          <p:nvPr/>
        </p:nvCxnSpPr>
        <p:spPr>
          <a:xfrm>
            <a:off x="2030400" y="3341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9" idx="6"/>
            <a:endCxn id="276" idx="2"/>
          </p:cNvCxnSpPr>
          <p:nvPr/>
        </p:nvCxnSpPr>
        <p:spPr>
          <a:xfrm>
            <a:off x="2030400" y="464940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8539200" y="5594400"/>
            <a:ext cx="1747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Times New Roman"/>
              </a:rPr>
              <a:t>blue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neurona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red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bold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7800" y="230364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400" y="294624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18200" y="3098880"/>
            <a:ext cx="35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84360" y="440676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086360" y="6370560"/>
                <a:ext cx="2006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352160" y="5997600"/>
            <a:ext cx="76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presents simulated observation of BOLD response, i.e. includes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080" y="-7488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linear state equation in DCM for fM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1000" y="1884240"/>
            <a:ext cx="123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stat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69760" y="205092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699760" y="188424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extern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00280" y="261144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61920" y="261144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340920" y="2611440"/>
            <a:ext cx="0" cy="307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8200" y="1881360"/>
            <a:ext cx="116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stat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11840" y="26082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0440" y="1881360"/>
            <a:ext cx="99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dir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89760" y="26082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3151080" y="5376960"/>
                <a:ext cx="39751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93640" y="2976480"/>
                <a:ext cx="915840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⋱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  <m:sup>
                                          <m:r>
                                            <m:t xml:space="preserve">j</m:t>
                                          </m:r>
                                        </m:sup>
                                      </m:sSubSup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  <m:sup>
                                          <m:r>
                                            <m:t xml:space="preserve">j</m:t>
                                          </m:r>
                                        </m:sup>
                                      </m:sSubSup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  <m:e>
                                      <m:r>
                                        <m:t xml:space="preserve">⋱</m:t>
                                      </m:r>
                                    </m:e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j</m:t>
                                          </m:r>
                                        </m:sup>
                                      </m:sSubSup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nn</m:t>
                                          </m:r>
                                        </m:sub>
                                        <m:sup>
                                          <m:r>
                                            <m:t xml:space="preserve">j</m:t>
                                          </m:r>
                                        </m:sup>
                                      </m:sSubSup>
                                    </m:e>
                                  </m:mr>
                                </m:m>
                              </m:e>
                            </m:d>
                          </m:e>
                        </m:nary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4282560" y="1881360"/>
            <a:ext cx="19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modul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65720" y="260820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000" y="47354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81760" y="47530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 drv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19280" y="4754520"/>
            <a:ext cx="15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m mo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7115040" y="1523880"/>
            <a:ext cx="2372040" cy="514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9574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4080" y="-8280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h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odynamic “Ballo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640" y="1515960"/>
            <a:ext cx="5999400" cy="514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697880" y="4309920"/>
            <a:ext cx="1141200" cy="532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7958160" y="3908520"/>
            <a:ext cx="606240" cy="506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7674120" y="2884320"/>
            <a:ext cx="1131840" cy="1008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7477200" y="1589040"/>
            <a:ext cx="1665360" cy="124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7477200" y="1589040"/>
            <a:ext cx="1665360" cy="124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320" name=""/>
          <p:cNvGraphicFramePr/>
          <p:nvPr/>
        </p:nvGraphicFramePr>
        <p:xfrm>
          <a:off x="7337520" y="4734000"/>
          <a:ext cx="2039760" cy="192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37520" y="4734000"/>
                    <a:ext cx="203976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9329760" y="5630760"/>
            <a:ext cx="36360" cy="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403360" y="3995640"/>
                <a:ext cx="1258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low inductio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324" name=""/>
          <p:cNvCxnSpPr/>
          <p:nvPr/>
        </p:nvCxnSpPr>
        <p:spPr>
          <a:xfrm flipH="1" flipV="1" rot="5400000">
            <a:off x="2325600" y="1723320"/>
            <a:ext cx="616680" cy="1480320"/>
          </a:xfrm>
          <a:prstGeom prst="bentConnector3">
            <a:avLst>
              <a:gd name="adj1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"/>
          <p:cNvCxnSpPr/>
          <p:nvPr/>
        </p:nvCxnSpPr>
        <p:spPr>
          <a:xfrm flipV="1" rot="16200000">
            <a:off x="3785760" y="1742760"/>
            <a:ext cx="603720" cy="1429200"/>
          </a:xfrm>
          <a:prstGeom prst="bentConnector3">
            <a:avLst>
              <a:gd name="adj1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/>
          <p:nvPr/>
        </p:nvCxnSpPr>
        <p:spPr>
          <a:xfrm flipV="1" rot="16200000">
            <a:off x="2229120" y="3190680"/>
            <a:ext cx="469080" cy="1140480"/>
          </a:xfrm>
          <a:prstGeom prst="bentConnector3">
            <a:avLst>
              <a:gd name="adj1" fmla="val 497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27" name=""/>
          <p:cNvGraphicFramePr/>
          <p:nvPr/>
        </p:nvGraphicFramePr>
        <p:xfrm>
          <a:off x="3298680" y="2759040"/>
          <a:ext cx="3006720" cy="768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98680" y="2759040"/>
                    <a:ext cx="3006720" cy="7682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022400" y="2771640"/>
                <a:ext cx="1741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nges in volume</m:t>
                        </m:r>
                      </m:e>
                      <m:e>
                        <m:r>
                          <m:t xml:space="preserve">τ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α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330" name=""/>
          <p:cNvCxnSpPr/>
          <p:nvPr/>
        </p:nvCxnSpPr>
        <p:spPr>
          <a:xfrm flipH="1" flipV="1" rot="5400000">
            <a:off x="3683520" y="2876760"/>
            <a:ext cx="469080" cy="1769040"/>
          </a:xfrm>
          <a:prstGeom prst="bentConnector3">
            <a:avLst>
              <a:gd name="adj1" fmla="val 497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763720" y="3142800"/>
            <a:ext cx="535680" cy="720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rot="5400000">
            <a:off x="1268280" y="2524680"/>
            <a:ext cx="378720" cy="872280"/>
          </a:xfrm>
          <a:prstGeom prst="bentConnector4">
            <a:avLst>
              <a:gd name="adj1" fmla="val -60418"/>
              <a:gd name="adj2" fmla="val 1262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/>
          <p:nvPr/>
        </p:nvCxnSpPr>
        <p:spPr>
          <a:xfrm flipV="1" rot="10800000">
            <a:off x="1890000" y="4318560"/>
            <a:ext cx="513360" cy="1065960"/>
          </a:xfrm>
          <a:prstGeom prst="bentConnector3">
            <a:avLst>
              <a:gd name="adj1" fmla="val 1445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/>
          <p:nvPr/>
        </p:nvCxnSpPr>
        <p:spPr>
          <a:xfrm flipH="1" rot="16200000">
            <a:off x="3412800" y="4627800"/>
            <a:ext cx="374040" cy="1139040"/>
          </a:xfrm>
          <a:prstGeom prst="bentConnector4">
            <a:avLst>
              <a:gd name="adj1" fmla="val -61271"/>
              <a:gd name="adj2" fmla="val 120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890720" y="5011560"/>
                <a:ext cx="22780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sodilatory signal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κs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336" name=""/>
          <p:cNvCxnSpPr/>
          <p:nvPr/>
        </p:nvCxnSpPr>
        <p:spPr>
          <a:xfrm flipH="1" rot="16200000">
            <a:off x="5351760" y="2207880"/>
            <a:ext cx="397800" cy="1497960"/>
          </a:xfrm>
          <a:prstGeom prst="bentConnector4">
            <a:avLst>
              <a:gd name="adj1" fmla="val -57518"/>
              <a:gd name="adj2" fmla="val 1130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37" name=""/>
          <p:cNvGraphicFramePr/>
          <p:nvPr/>
        </p:nvGraphicFramePr>
        <p:xfrm>
          <a:off x="2274840" y="5972040"/>
          <a:ext cx="1527120" cy="63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74840" y="5972040"/>
                    <a:ext cx="1527120" cy="638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763720" y="1627200"/>
                <a:ext cx="1217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LD sign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340" name=""/>
          <p:cNvCxnSpPr/>
          <p:nvPr/>
        </p:nvCxnSpPr>
        <p:spPr>
          <a:xfrm flipH="1" flipV="1">
            <a:off x="3030120" y="5757120"/>
            <a:ext cx="864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/>
          <p:nvPr/>
        </p:nvCxnSpPr>
        <p:spPr>
          <a:xfrm flipV="1">
            <a:off x="3030120" y="4641120"/>
            <a:ext cx="3960" cy="37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42" name=""/>
          <p:cNvGrpSpPr/>
          <p:nvPr/>
        </p:nvGrpSpPr>
        <p:grpSpPr>
          <a:xfrm>
            <a:off x="7873920" y="4925880"/>
            <a:ext cx="796680" cy="765360"/>
            <a:chOff x="7873920" y="4925880"/>
            <a:chExt cx="796680" cy="765360"/>
          </a:xfrm>
        </p:grpSpPr>
        <p:sp>
          <p:nvSpPr>
            <p:cNvPr id="343" name=""/>
            <p:cNvSpPr/>
            <p:nvPr/>
          </p:nvSpPr>
          <p:spPr>
            <a:xfrm>
              <a:off x="7908840" y="4925880"/>
              <a:ext cx="191880" cy="176400"/>
            </a:xfrm>
            <a:prstGeom prst="ellipse">
              <a:avLst/>
            </a:prstGeom>
            <a:solidFill>
              <a:srgbClr val="05d705"/>
            </a:solidFill>
            <a:ln w="12600">
              <a:solidFill>
                <a:srgbClr val="05d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78720" y="5192640"/>
              <a:ext cx="191880" cy="176400"/>
            </a:xfrm>
            <a:prstGeom prst="ellipse">
              <a:avLst/>
            </a:prstGeom>
            <a:solidFill>
              <a:srgbClr val="05d705"/>
            </a:solidFill>
            <a:ln w="12600">
              <a:solidFill>
                <a:srgbClr val="05d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73920" y="5514840"/>
              <a:ext cx="191880" cy="176400"/>
            </a:xfrm>
            <a:prstGeom prst="ellipse">
              <a:avLst/>
            </a:prstGeom>
            <a:solidFill>
              <a:srgbClr val="05d705"/>
            </a:solidFill>
            <a:ln w="12600">
              <a:solidFill>
                <a:srgbClr val="05d7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6" name=""/>
            <p:cNvCxnSpPr>
              <a:stCxn id="345" idx="7"/>
              <a:endCxn id="344" idx="3"/>
            </p:cNvCxnSpPr>
            <p:nvPr/>
          </p:nvCxnSpPr>
          <p:spPr>
            <a:xfrm flipV="1">
              <a:off x="8037000" y="5342760"/>
              <a:ext cx="470520" cy="199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7" name=""/>
            <p:cNvCxnSpPr>
              <a:stCxn id="345" idx="0"/>
              <a:endCxn id="343" idx="4"/>
            </p:cNvCxnSpPr>
            <p:nvPr/>
          </p:nvCxnSpPr>
          <p:spPr>
            <a:xfrm flipV="1">
              <a:off x="7970400" y="5101920"/>
              <a:ext cx="35640" cy="413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8" name=""/>
            <p:cNvCxnSpPr>
              <a:stCxn id="343" idx="6"/>
              <a:endCxn id="344" idx="1"/>
            </p:cNvCxnSpPr>
            <p:nvPr/>
          </p:nvCxnSpPr>
          <p:spPr>
            <a:xfrm>
              <a:off x="8100360" y="5014440"/>
              <a:ext cx="407160" cy="205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49" name=""/>
          <p:cNvSpPr/>
          <p:nvPr/>
        </p:nvSpPr>
        <p:spPr>
          <a:xfrm>
            <a:off x="4568760" y="4044960"/>
            <a:ext cx="2006640" cy="519120"/>
          </a:xfrm>
          <a:prstGeom prst="rect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h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dynamic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048280" y="4284720"/>
          <a:ext cx="1163520" cy="25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48280" y="4284720"/>
                    <a:ext cx="1163520" cy="25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034600" y="606744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7c03"/>
                </a:solidFill>
                <a:latin typeface="Arial"/>
              </a:rPr>
              <a:t>B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59320" y="404640"/>
            <a:ext cx="5580000" cy="324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91120" y="5756400"/>
            <a:ext cx="447480" cy="45972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1390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22600" y="52704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86080" y="54864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56040" y="5467320"/>
            <a:ext cx="447480" cy="45972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1390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4600" y="4170240"/>
            <a:ext cx="6264360" cy="1676520"/>
          </a:xfrm>
          <a:prstGeom prst="parallelogram">
            <a:avLst>
              <a:gd name="adj" fmla="val 93413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86080" y="49816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55680" y="5996160"/>
            <a:ext cx="447840" cy="459720"/>
          </a:xfrm>
          <a:prstGeom prst="rect">
            <a:avLst/>
          </a:prstGeom>
          <a:gradFill rotWithShape="0">
            <a:gsLst>
              <a:gs pos="0">
                <a:srgbClr val="037c03"/>
              </a:gs>
              <a:gs pos="100000">
                <a:srgbClr val="01390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5280" y="501336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emodyna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655280" y="4714920"/>
            <a:ext cx="129564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35200" y="2427120"/>
            <a:ext cx="85896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56240" y="4459320"/>
            <a:ext cx="803880" cy="614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637080" y="4638240"/>
            <a:ext cx="4572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03560" y="3267000"/>
            <a:ext cx="838080" cy="1524240"/>
          </a:xfrm>
          <a:custGeom>
            <a:avLst/>
            <a:gdLst/>
            <a:ahLst/>
            <a:rect l="l" t="t" r="r" b="b"/>
            <a:pathLst>
              <a:path w="1208" h="1008">
                <a:moveTo>
                  <a:pt x="0" y="0"/>
                </a:moveTo>
                <a:cubicBezTo>
                  <a:pt x="404" y="60"/>
                  <a:pt x="808" y="120"/>
                  <a:pt x="1008" y="288"/>
                </a:cubicBezTo>
                <a:cubicBezTo>
                  <a:pt x="1208" y="456"/>
                  <a:pt x="1204" y="732"/>
                  <a:pt x="1200" y="10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27440" y="4992840"/>
            <a:ext cx="803880" cy="614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99240" y="4764240"/>
            <a:ext cx="803880" cy="6141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502640" y="3267000"/>
            <a:ext cx="1523880" cy="1676520"/>
          </a:xfrm>
          <a:custGeom>
            <a:avLst/>
            <a:gdLst/>
            <a:ahLst/>
            <a:rect l="l" t="t" r="r" b="b"/>
            <a:pathLst>
              <a:path w="1208" h="1008">
                <a:moveTo>
                  <a:pt x="0" y="0"/>
                </a:moveTo>
                <a:cubicBezTo>
                  <a:pt x="404" y="60"/>
                  <a:pt x="808" y="120"/>
                  <a:pt x="1008" y="288"/>
                </a:cubicBezTo>
                <a:cubicBezTo>
                  <a:pt x="1208" y="456"/>
                  <a:pt x="1204" y="732"/>
                  <a:pt x="1200" y="10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36960" y="1693800"/>
            <a:ext cx="22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effectiv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36960" y="304164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direct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24360" y="22431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modul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271920" y="3227400"/>
            <a:ext cx="15080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30760" y="99684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linea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170840" y="934920"/>
                <a:ext cx="26985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1413000" y="3394080"/>
            <a:ext cx="39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95840" y="3394080"/>
            <a:ext cx="48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83040" y="4402080"/>
            <a:ext cx="48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19480" y="407664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ur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727680" y="4221000"/>
            <a:ext cx="1224000" cy="2294640"/>
            <a:chOff x="6727680" y="4221000"/>
            <a:chExt cx="1224000" cy="2294640"/>
          </a:xfrm>
        </p:grpSpPr>
        <p:sp>
          <p:nvSpPr>
            <p:cNvPr id="381" name=""/>
            <p:cNvSpPr/>
            <p:nvPr/>
          </p:nvSpPr>
          <p:spPr>
            <a:xfrm flipH="1">
              <a:off x="7304040" y="4628880"/>
              <a:ext cx="2880" cy="15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27680" y="4979880"/>
              <a:ext cx="1224000" cy="72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2620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6560" y="6055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37c03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7299360" y="3502080"/>
            <a:ext cx="4680" cy="790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21400" y="36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3240" y="55404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ronal stat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216920" y="449280"/>
                <a:ext cx="19238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07880" y="258840"/>
            <a:ext cx="295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Conceptual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884240" y="5019480"/>
            <a:ext cx="2133720" cy="15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780040" y="6354720"/>
            <a:ext cx="151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riston et al. 2003,</a:t>
            </a:r>
            <a:br>
              <a:rPr sz="1200"/>
            </a:b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Neuro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869240" y="1582560"/>
                <a:ext cx="2006640" cy="196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 flipH="1">
            <a:off x="6865920" y="254304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7053120" y="1870200"/>
            <a:ext cx="727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882720" y="5578560"/>
            <a:ext cx="143964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MRI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778880" y="3965400"/>
            <a:ext cx="2158920" cy="719280"/>
          </a:xfrm>
          <a:prstGeom prst="rect">
            <a:avLst/>
          </a:prstGeom>
          <a:solidFill>
            <a:srgbClr val="339966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 dens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98960" y="1563840"/>
            <a:ext cx="1800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81560" y="1563840"/>
            <a:ext cx="1800360" cy="71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emo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07320" y="5608800"/>
            <a:ext cx="2158920" cy="718920"/>
          </a:xfrm>
          <a:prstGeom prst="rect">
            <a:avLst/>
          </a:prstGeom>
          <a:solidFill>
            <a:srgbClr val="99cc00">
              <a:alpha val="7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080" y="-986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CM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402" idx="3"/>
            <a:endCxn id="403" idx="2"/>
          </p:cNvCxnSpPr>
          <p:nvPr/>
        </p:nvCxnSpPr>
        <p:spPr>
          <a:xfrm>
            <a:off x="2334960" y="4284720"/>
            <a:ext cx="1283400" cy="68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3"/>
            <a:endCxn id="405" idx="2"/>
          </p:cNvCxnSpPr>
          <p:nvPr/>
        </p:nvCxnSpPr>
        <p:spPr>
          <a:xfrm flipV="1">
            <a:off x="2322000" y="5351040"/>
            <a:ext cx="1297800" cy="58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06" name=""/>
          <p:cNvGrpSpPr/>
          <p:nvPr/>
        </p:nvGrpSpPr>
        <p:grpSpPr>
          <a:xfrm>
            <a:off x="3618000" y="4683240"/>
            <a:ext cx="3051000" cy="950760"/>
            <a:chOff x="3618000" y="4683240"/>
            <a:chExt cx="3051000" cy="950760"/>
          </a:xfrm>
        </p:grpSpPr>
        <p:sp>
          <p:nvSpPr>
            <p:cNvPr id="407" name=""/>
            <p:cNvSpPr/>
            <p:nvPr/>
          </p:nvSpPr>
          <p:spPr>
            <a:xfrm>
              <a:off x="3683160" y="4683240"/>
              <a:ext cx="2917800" cy="9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el invers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ectation-maxim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18000" y="4905360"/>
              <a:ext cx="119160" cy="12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19440" y="5287680"/>
              <a:ext cx="119160" cy="126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8400" y="4898880"/>
              <a:ext cx="119160" cy="126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0200" y="5281560"/>
              <a:ext cx="118800" cy="12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0" name=""/>
          <p:cNvCxnSpPr>
            <a:stCxn id="408" idx="6"/>
            <a:endCxn id="396" idx="1"/>
          </p:cNvCxnSpPr>
          <p:nvPr/>
        </p:nvCxnSpPr>
        <p:spPr>
          <a:xfrm flipV="1">
            <a:off x="6667560" y="4325040"/>
            <a:ext cx="1102320" cy="63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9" idx="5"/>
            <a:endCxn id="399" idx="1"/>
          </p:cNvCxnSpPr>
          <p:nvPr/>
        </p:nvCxnSpPr>
        <p:spPr>
          <a:xfrm>
            <a:off x="6651720" y="5389560"/>
            <a:ext cx="1146960" cy="58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2" name=""/>
          <p:cNvGrpSpPr/>
          <p:nvPr/>
        </p:nvGrpSpPr>
        <p:grpSpPr>
          <a:xfrm>
            <a:off x="4229280" y="2998800"/>
            <a:ext cx="1800000" cy="718920"/>
            <a:chOff x="4229280" y="2998800"/>
            <a:chExt cx="1800000" cy="718920"/>
          </a:xfrm>
        </p:grpSpPr>
        <p:sp>
          <p:nvSpPr>
            <p:cNvPr id="413" name=""/>
            <p:cNvSpPr/>
            <p:nvPr/>
          </p:nvSpPr>
          <p:spPr>
            <a:xfrm>
              <a:off x="4229280" y="3052080"/>
              <a:ext cx="1800000" cy="665640"/>
            </a:xfrm>
            <a:prstGeom prst="rect">
              <a:avLst/>
            </a:prstGeom>
            <a:solidFill>
              <a:srgbClr val="cc99ff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e spa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63520" y="2998800"/>
              <a:ext cx="145800" cy="98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46640" y="2999520"/>
              <a:ext cx="145800" cy="98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"/>
          <p:cNvCxnSpPr>
            <a:stCxn id="397" idx="2"/>
            <a:endCxn id="414" idx="1"/>
          </p:cNvCxnSpPr>
          <p:nvPr/>
        </p:nvCxnSpPr>
        <p:spPr>
          <a:xfrm>
            <a:off x="4098600" y="2282400"/>
            <a:ext cx="686520" cy="73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98" idx="2"/>
            <a:endCxn id="415" idx="7"/>
          </p:cNvCxnSpPr>
          <p:nvPr/>
        </p:nvCxnSpPr>
        <p:spPr>
          <a:xfrm flipH="1">
            <a:off x="5371920" y="2282400"/>
            <a:ext cx="810000" cy="73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3" idx="2"/>
            <a:endCxn id="407" idx="0"/>
          </p:cNvCxnSpPr>
          <p:nvPr/>
        </p:nvCxnSpPr>
        <p:spPr>
          <a:xfrm>
            <a:off x="5128920" y="3717720"/>
            <a:ext cx="13320" cy="96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895320" y="3924360"/>
            <a:ext cx="1440000" cy="718920"/>
          </a:xfrm>
          <a:prstGeom prst="rect">
            <a:avLst/>
          </a:prstGeom>
          <a:solidFill>
            <a:srgbClr val="cc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30480" y="4309920"/>
            <a:ext cx="4210200" cy="2568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5735520" y="1349280"/>
            <a:ext cx="277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emodynamic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41880" y="330192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32360" y="1349280"/>
            <a:ext cx="34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emodynamics in a singl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ronal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14400" y="3835440"/>
            <a:ext cx="30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yesian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6794640" y="2430360"/>
                <a:ext cx="688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3603600" y="3222720"/>
                <a:ext cx="3067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548080" y="2430360"/>
                <a:ext cx="10461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27" name=""/>
          <p:cNvCxnSpPr/>
          <p:nvPr/>
        </p:nvCxnSpPr>
        <p:spPr>
          <a:xfrm flipH="1" rot="16200000">
            <a:off x="3042360" y="2867040"/>
            <a:ext cx="589680" cy="5324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/>
          <p:nvPr/>
        </p:nvCxnSpPr>
        <p:spPr>
          <a:xfrm rot="5400000">
            <a:off x="6609600" y="2898720"/>
            <a:ext cx="589680" cy="4690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2106720" y="337356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os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14640" y="256716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Times New Roman"/>
              </a:rPr>
              <a:t>p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4640" y="256716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imes New Roman"/>
              </a:rPr>
              <a:t>likelihood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70040" y="-184320"/>
            <a:ext cx="8743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timation: Bayesian fra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79880" y="1417680"/>
            <a:ext cx="4753080" cy="3593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859360" y="2643120"/>
                <a:ext cx="1249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low-inductio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BF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326280" y="2347920"/>
                <a:ext cx="125280" cy="1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5608800" y="4387680"/>
                <a:ext cx="123840" cy="1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38" name=""/>
          <p:cNvCxnSpPr/>
          <p:nvPr/>
        </p:nvCxnSpPr>
        <p:spPr>
          <a:xfrm rot="5400000">
            <a:off x="5645520" y="3016800"/>
            <a:ext cx="780120" cy="899280"/>
          </a:xfrm>
          <a:prstGeom prst="bentConnector3">
            <a:avLst>
              <a:gd name="adj1" fmla="val 4986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/>
          <p:nvPr/>
        </p:nvCxnSpPr>
        <p:spPr>
          <a:xfrm flipH="1" rot="16200000">
            <a:off x="6541200" y="3019680"/>
            <a:ext cx="780120" cy="892800"/>
          </a:xfrm>
          <a:prstGeom prst="bentConnector3">
            <a:avLst>
              <a:gd name="adj1" fmla="val 4986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6332400" y="3166920"/>
                <a:ext cx="114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5344560" y="11736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timulus function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58400" y="572436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del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LD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/>
          <p:nvPr/>
        </p:nvCxnSpPr>
        <p:spPr>
          <a:xfrm flipH="1" rot="16200000">
            <a:off x="5572800" y="4324320"/>
            <a:ext cx="937440" cy="911880"/>
          </a:xfrm>
          <a:prstGeom prst="bentConnector3">
            <a:avLst>
              <a:gd name="adj1" fmla="val 49980"/>
            </a:avLst>
          </a:prstGeom>
          <a:ln w="28440">
            <a:solidFill>
              <a:srgbClr val="037c0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276960" y="3956040"/>
                <a:ext cx="12528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464600" y="4157640"/>
                <a:ext cx="114120" cy="1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588000" y="3855960"/>
                <a:ext cx="15782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nges in dHb</m:t>
                        </m:r>
                      </m:e>
                      <m:e>
                        <m:r>
                          <m:t xml:space="preserve">τ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,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ρ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α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q/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003640" y="3855960"/>
                <a:ext cx="11638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nges in volume</m:t>
                        </m:r>
                      </m:e>
                      <m:e>
                        <m:r>
                          <m:t xml:space="preserve">τ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α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448" name=""/>
          <p:cNvCxnSpPr/>
          <p:nvPr/>
        </p:nvCxnSpPr>
        <p:spPr>
          <a:xfrm rot="5400000">
            <a:off x="6466680" y="4338720"/>
            <a:ext cx="937440" cy="883440"/>
          </a:xfrm>
          <a:prstGeom prst="bentConnector3">
            <a:avLst>
              <a:gd name="adj1" fmla="val 49980"/>
            </a:avLst>
          </a:prstGeom>
          <a:ln w="28440">
            <a:solidFill>
              <a:srgbClr val="037c03"/>
            </a:solidFill>
            <a:miter/>
            <a:tailEnd len="med" type="triangle" w="med"/>
          </a:ln>
        </p:spPr>
      </p:cxnSp>
      <p:cxnSp>
        <p:nvCxnSpPr>
          <p:cNvPr id="449" name=""/>
          <p:cNvCxnSpPr/>
          <p:nvPr/>
        </p:nvCxnSpPr>
        <p:spPr>
          <a:xfrm>
            <a:off x="6167520" y="4084200"/>
            <a:ext cx="42120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/>
          <p:nvPr/>
        </p:nvCxnSpPr>
        <p:spPr>
          <a:xfrm flipV="1" rot="16200000">
            <a:off x="5180760" y="3906000"/>
            <a:ext cx="227880" cy="583560"/>
          </a:xfrm>
          <a:prstGeom prst="bentConnector4">
            <a:avLst>
              <a:gd name="adj1" fmla="val -100000"/>
              <a:gd name="adj2" fmla="val 13919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/>
          <p:nvPr/>
        </p:nvCxnSpPr>
        <p:spPr>
          <a:xfrm rot="10800000">
            <a:off x="5466600" y="2053440"/>
            <a:ext cx="392760" cy="807120"/>
          </a:xfrm>
          <a:prstGeom prst="bentConnector3">
            <a:avLst>
              <a:gd name="adj1" fmla="val 15825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292720" y="2333520"/>
                <a:ext cx="1144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53" name=""/>
          <p:cNvCxnSpPr/>
          <p:nvPr/>
        </p:nvCxnSpPr>
        <p:spPr>
          <a:xfrm flipH="1" flipV="1" rot="5400000">
            <a:off x="6879960" y="1650600"/>
            <a:ext cx="204120" cy="1010160"/>
          </a:xfrm>
          <a:prstGeom prst="bentConnector4">
            <a:avLst>
              <a:gd name="adj1" fmla="val -112367"/>
              <a:gd name="adj2" fmla="val 12263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7243920" y="4365720"/>
                <a:ext cx="137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55" name=""/>
          <p:cNvCxnSpPr/>
          <p:nvPr/>
        </p:nvCxnSpPr>
        <p:spPr>
          <a:xfrm rot="5400000">
            <a:off x="6205680" y="1578960"/>
            <a:ext cx="543600" cy="2160"/>
          </a:xfrm>
          <a:prstGeom prst="bentConnector3">
            <a:avLst>
              <a:gd name="adj1" fmla="val 49966"/>
            </a:avLst>
          </a:prstGeom>
          <a:ln w="28440">
            <a:solidFill>
              <a:srgbClr val="bbe0e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5467320" y="1851120"/>
                <a:ext cx="2019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tivity-dependent vasodilatory signal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κs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457" name=""/>
          <p:cNvCxnSpPr/>
          <p:nvPr/>
        </p:nvCxnSpPr>
        <p:spPr>
          <a:xfrm flipH="1" flipV="1" rot="5400000">
            <a:off x="7657920" y="3803040"/>
            <a:ext cx="227880" cy="789840"/>
          </a:xfrm>
          <a:prstGeom prst="bentConnector4">
            <a:avLst>
              <a:gd name="adj1" fmla="val -100000"/>
              <a:gd name="adj2" fmla="val 12895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7723080" y="2340000"/>
                <a:ext cx="125640" cy="1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59" name=""/>
          <p:cNvGraphicFramePr/>
          <p:nvPr/>
        </p:nvGraphicFramePr>
        <p:xfrm>
          <a:off x="6039000" y="5307120"/>
          <a:ext cx="9032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5307120"/>
                    <a:ext cx="9032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7942320" y="5310360"/>
          <a:ext cx="216216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42320" y="5310360"/>
                    <a:ext cx="21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7803000" y="5653080"/>
            <a:ext cx="2437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observation mod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41" idx="3"/>
          </p:cNvCxnSpPr>
          <p:nvPr/>
        </p:nvCxnSpPr>
        <p:spPr>
          <a:xfrm>
            <a:off x="7538760" y="301320"/>
            <a:ext cx="1959480" cy="498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8510760" y="3400560"/>
            <a:ext cx="9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30280" y="278460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de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218120" y="3056040"/>
                <a:ext cx="10047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4131360" y="328608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 eq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4222800" y="3557520"/>
          <a:ext cx="849240" cy="20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2800" y="3557520"/>
                    <a:ext cx="8492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71" name=""/>
          <p:cNvCxnSpPr/>
          <p:nvPr/>
        </p:nvCxnSpPr>
        <p:spPr>
          <a:xfrm flipH="1" rot="16200000">
            <a:off x="6288120" y="2445840"/>
            <a:ext cx="386280" cy="8640"/>
          </a:xfrm>
          <a:prstGeom prst="bentConnector3">
            <a:avLst>
              <a:gd name="adj1" fmla="val 4972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538760" y="263196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567560" y="2908440"/>
                <a:ext cx="12272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h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κ</m:t>
                            </m:r>
                            <m:r>
                              <m:t xml:space="preserve">,</m:t>
                            </m:r>
                            <m:r>
                              <m:t xml:space="preserve">γ</m:t>
                            </m:r>
                            <m:r>
                              <m:t xml:space="preserve">,</m:t>
                            </m:r>
                            <m:r>
                              <m:t xml:space="preserve">τ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ρ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h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474" name=""/>
          <p:cNvCxnSpPr/>
          <p:nvPr/>
        </p:nvCxnSpPr>
        <p:spPr>
          <a:xfrm>
            <a:off x="6942240" y="5465880"/>
            <a:ext cx="1000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46240" y="336600"/>
            <a:ext cx="93992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verview: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rameter est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6040" y="2766960"/>
            <a:ext cx="1538280" cy="1025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26480" y="5092560"/>
            <a:ext cx="2193840" cy="11764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84440" y="5359320"/>
            <a:ext cx="1395360" cy="11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573360" y="5435280"/>
            <a:ext cx="1222560" cy="1032120"/>
            <a:chOff x="3573360" y="5435280"/>
            <a:chExt cx="1222560" cy="1032120"/>
          </a:xfrm>
        </p:grpSpPr>
        <p:sp>
          <p:nvSpPr>
            <p:cNvPr id="480" name=""/>
            <p:cNvSpPr/>
            <p:nvPr/>
          </p:nvSpPr>
          <p:spPr>
            <a:xfrm>
              <a:off x="3984120" y="5568840"/>
              <a:ext cx="498600" cy="898200"/>
            </a:xfrm>
            <a:custGeom>
              <a:avLst/>
              <a:gdLst/>
              <a:ahLst/>
              <a:rect l="l" t="t" r="r" b="b"/>
              <a:pathLst>
                <a:path w="1456" h="2452">
                  <a:moveTo>
                    <a:pt x="0" y="2452"/>
                  </a:moveTo>
                  <a:lnTo>
                    <a:pt x="0" y="732"/>
                  </a:lnTo>
                  <a:lnTo>
                    <a:pt x="116" y="288"/>
                  </a:lnTo>
                  <a:lnTo>
                    <a:pt x="192" y="92"/>
                  </a:lnTo>
                  <a:lnTo>
                    <a:pt x="260" y="8"/>
                  </a:lnTo>
                  <a:lnTo>
                    <a:pt x="300" y="0"/>
                  </a:lnTo>
                  <a:lnTo>
                    <a:pt x="364" y="56"/>
                  </a:lnTo>
                  <a:lnTo>
                    <a:pt x="408" y="148"/>
                  </a:lnTo>
                  <a:lnTo>
                    <a:pt x="484" y="368"/>
                  </a:lnTo>
                  <a:lnTo>
                    <a:pt x="620" y="932"/>
                  </a:lnTo>
                  <a:lnTo>
                    <a:pt x="820" y="1748"/>
                  </a:lnTo>
                  <a:lnTo>
                    <a:pt x="932" y="2064"/>
                  </a:lnTo>
                  <a:lnTo>
                    <a:pt x="1040" y="2244"/>
                  </a:lnTo>
                  <a:lnTo>
                    <a:pt x="1108" y="2328"/>
                  </a:lnTo>
                  <a:lnTo>
                    <a:pt x="1196" y="2388"/>
                  </a:lnTo>
                  <a:lnTo>
                    <a:pt x="1292" y="2420"/>
                  </a:lnTo>
                  <a:lnTo>
                    <a:pt x="1432" y="2452"/>
                  </a:lnTo>
                  <a:lnTo>
                    <a:pt x="1456" y="2452"/>
                  </a:lnTo>
                  <a:lnTo>
                    <a:pt x="0" y="2452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3360" y="5435640"/>
              <a:ext cx="1222560" cy="1031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73360" y="6467040"/>
              <a:ext cx="122256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73360" y="6467040"/>
              <a:ext cx="122256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73360" y="6467040"/>
              <a:ext cx="122256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73360" y="5566680"/>
              <a:ext cx="1222560" cy="900360"/>
            </a:xfrm>
            <a:custGeom>
              <a:avLst/>
              <a:gdLst/>
              <a:ahLst/>
              <a:rect l="l" t="t" r="r" b="b"/>
              <a:pathLst>
                <a:path w="3570" h="2458">
                  <a:moveTo>
                    <a:pt x="0" y="2458"/>
                  </a:moveTo>
                  <a:lnTo>
                    <a:pt x="44" y="2458"/>
                  </a:lnTo>
                  <a:lnTo>
                    <a:pt x="88" y="2458"/>
                  </a:lnTo>
                  <a:lnTo>
                    <a:pt x="132" y="2456"/>
                  </a:lnTo>
                  <a:lnTo>
                    <a:pt x="178" y="2456"/>
                  </a:lnTo>
                  <a:lnTo>
                    <a:pt x="222" y="2456"/>
                  </a:lnTo>
                  <a:lnTo>
                    <a:pt x="266" y="2454"/>
                  </a:lnTo>
                  <a:lnTo>
                    <a:pt x="312" y="2452"/>
                  </a:lnTo>
                  <a:lnTo>
                    <a:pt x="356" y="2448"/>
                  </a:lnTo>
                  <a:lnTo>
                    <a:pt x="400" y="2442"/>
                  </a:lnTo>
                  <a:lnTo>
                    <a:pt x="446" y="2436"/>
                  </a:lnTo>
                  <a:lnTo>
                    <a:pt x="490" y="2424"/>
                  </a:lnTo>
                  <a:lnTo>
                    <a:pt x="534" y="2408"/>
                  </a:lnTo>
                  <a:lnTo>
                    <a:pt x="580" y="2388"/>
                  </a:lnTo>
                  <a:lnTo>
                    <a:pt x="624" y="2360"/>
                  </a:lnTo>
                  <a:lnTo>
                    <a:pt x="668" y="2322"/>
                  </a:lnTo>
                  <a:lnTo>
                    <a:pt x="714" y="2274"/>
                  </a:lnTo>
                  <a:lnTo>
                    <a:pt x="758" y="2210"/>
                  </a:lnTo>
                  <a:lnTo>
                    <a:pt x="802" y="2134"/>
                  </a:lnTo>
                  <a:lnTo>
                    <a:pt x="848" y="2038"/>
                  </a:lnTo>
                  <a:lnTo>
                    <a:pt x="892" y="1926"/>
                  </a:lnTo>
                  <a:lnTo>
                    <a:pt x="936" y="1794"/>
                  </a:lnTo>
                  <a:lnTo>
                    <a:pt x="980" y="1644"/>
                  </a:lnTo>
                  <a:lnTo>
                    <a:pt x="1026" y="1478"/>
                  </a:lnTo>
                  <a:lnTo>
                    <a:pt x="1070" y="1296"/>
                  </a:lnTo>
                  <a:lnTo>
                    <a:pt x="1114" y="1106"/>
                  </a:lnTo>
                  <a:lnTo>
                    <a:pt x="1160" y="910"/>
                  </a:lnTo>
                  <a:lnTo>
                    <a:pt x="1204" y="716"/>
                  </a:lnTo>
                  <a:lnTo>
                    <a:pt x="1248" y="532"/>
                  </a:lnTo>
                  <a:lnTo>
                    <a:pt x="1294" y="366"/>
                  </a:lnTo>
                  <a:lnTo>
                    <a:pt x="1338" y="222"/>
                  </a:lnTo>
                  <a:lnTo>
                    <a:pt x="1382" y="110"/>
                  </a:lnTo>
                  <a:lnTo>
                    <a:pt x="1428" y="36"/>
                  </a:lnTo>
                  <a:lnTo>
                    <a:pt x="1472" y="0"/>
                  </a:lnTo>
                  <a:lnTo>
                    <a:pt x="1516" y="8"/>
                  </a:lnTo>
                  <a:lnTo>
                    <a:pt x="1562" y="56"/>
                  </a:lnTo>
                  <a:lnTo>
                    <a:pt x="1606" y="146"/>
                  </a:lnTo>
                  <a:lnTo>
                    <a:pt x="1650" y="268"/>
                  </a:lnTo>
                  <a:lnTo>
                    <a:pt x="1696" y="420"/>
                  </a:lnTo>
                  <a:lnTo>
                    <a:pt x="1740" y="594"/>
                  </a:lnTo>
                  <a:lnTo>
                    <a:pt x="1784" y="782"/>
                  </a:lnTo>
                  <a:lnTo>
                    <a:pt x="1828" y="976"/>
                  </a:lnTo>
                  <a:lnTo>
                    <a:pt x="1874" y="1172"/>
                  </a:lnTo>
                  <a:lnTo>
                    <a:pt x="1918" y="1360"/>
                  </a:lnTo>
                  <a:lnTo>
                    <a:pt x="1962" y="1536"/>
                  </a:lnTo>
                  <a:lnTo>
                    <a:pt x="2008" y="1698"/>
                  </a:lnTo>
                  <a:lnTo>
                    <a:pt x="2052" y="1842"/>
                  </a:lnTo>
                  <a:lnTo>
                    <a:pt x="2096" y="1966"/>
                  </a:lnTo>
                  <a:lnTo>
                    <a:pt x="2142" y="2074"/>
                  </a:lnTo>
                  <a:lnTo>
                    <a:pt x="2186" y="2162"/>
                  </a:lnTo>
                  <a:lnTo>
                    <a:pt x="2230" y="2234"/>
                  </a:lnTo>
                  <a:lnTo>
                    <a:pt x="2276" y="2292"/>
                  </a:lnTo>
                  <a:lnTo>
                    <a:pt x="2320" y="2336"/>
                  </a:lnTo>
                  <a:lnTo>
                    <a:pt x="2364" y="2370"/>
                  </a:lnTo>
                  <a:lnTo>
                    <a:pt x="2410" y="2396"/>
                  </a:lnTo>
                  <a:lnTo>
                    <a:pt x="2454" y="2414"/>
                  </a:lnTo>
                  <a:lnTo>
                    <a:pt x="2498" y="2428"/>
                  </a:lnTo>
                  <a:lnTo>
                    <a:pt x="2544" y="2438"/>
                  </a:lnTo>
                  <a:lnTo>
                    <a:pt x="2588" y="2444"/>
                  </a:lnTo>
                  <a:lnTo>
                    <a:pt x="2632" y="2450"/>
                  </a:lnTo>
                  <a:lnTo>
                    <a:pt x="2678" y="2452"/>
                  </a:lnTo>
                  <a:lnTo>
                    <a:pt x="2722" y="2454"/>
                  </a:lnTo>
                  <a:lnTo>
                    <a:pt x="2766" y="2456"/>
                  </a:lnTo>
                  <a:lnTo>
                    <a:pt x="2810" y="2456"/>
                  </a:lnTo>
                  <a:lnTo>
                    <a:pt x="2856" y="2456"/>
                  </a:lnTo>
                  <a:lnTo>
                    <a:pt x="2900" y="2458"/>
                  </a:lnTo>
                  <a:lnTo>
                    <a:pt x="2944" y="2458"/>
                  </a:lnTo>
                  <a:lnTo>
                    <a:pt x="2990" y="2458"/>
                  </a:lnTo>
                  <a:lnTo>
                    <a:pt x="3034" y="2458"/>
                  </a:lnTo>
                  <a:lnTo>
                    <a:pt x="3078" y="2458"/>
                  </a:lnTo>
                  <a:lnTo>
                    <a:pt x="3124" y="2458"/>
                  </a:lnTo>
                  <a:lnTo>
                    <a:pt x="3168" y="2458"/>
                  </a:lnTo>
                  <a:lnTo>
                    <a:pt x="3212" y="2458"/>
                  </a:lnTo>
                  <a:lnTo>
                    <a:pt x="3258" y="2458"/>
                  </a:lnTo>
                  <a:lnTo>
                    <a:pt x="3302" y="2458"/>
                  </a:lnTo>
                  <a:lnTo>
                    <a:pt x="3346" y="2458"/>
                  </a:lnTo>
                  <a:lnTo>
                    <a:pt x="3392" y="2458"/>
                  </a:lnTo>
                  <a:lnTo>
                    <a:pt x="3436" y="2458"/>
                  </a:lnTo>
                  <a:lnTo>
                    <a:pt x="3480" y="2458"/>
                  </a:lnTo>
                  <a:lnTo>
                    <a:pt x="3526" y="2458"/>
                  </a:lnTo>
                  <a:lnTo>
                    <a:pt x="3570" y="245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084200" y="5435280"/>
              <a:ext cx="0" cy="103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093200" y="5357880"/>
            <a:ext cx="54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808080"/>
                </a:solidFill>
                <a:latin typeface="Times New Roman"/>
              </a:rPr>
              <a:t>η</a:t>
            </a:r>
            <a:r>
              <a:rPr b="0" lang="el-GR" sz="2400" spc="-1" strike="noStrike" baseline="-25000">
                <a:solidFill>
                  <a:srgbClr val="808080"/>
                </a:solidFill>
                <a:latin typeface="Times New Roman"/>
              </a:rPr>
              <a:t>θ</a:t>
            </a:r>
            <a:r>
              <a:rPr b="0" lang="en-GB" sz="2400" spc="-1" strike="noStrike" baseline="-25000">
                <a:solidFill>
                  <a:srgbClr val="808080"/>
                </a:solidFill>
                <a:latin typeface="Times New Roman"/>
              </a:rPr>
              <a:t>|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42600" y="72072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uronal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5262480" y="870120"/>
                <a:ext cx="24321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6475320" y="447840"/>
            <a:ext cx="0" cy="38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0040" y="1430280"/>
            <a:ext cx="3489480" cy="35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ecify model (neuronal and haemodynamic 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ke it an observation model by adding measurement err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d confounds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e.g. drif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yesian parameter estim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pectation-maximiz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Normal) posterior parameter distributions, given by mean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|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Covariance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|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1446120" y="2895480"/>
            <a:ext cx="4595760" cy="34099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39720" y="517356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30360" y="356076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1459080" y="1689120"/>
            <a:ext cx="4559040" cy="14191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905120" y="2436840"/>
            <a:ext cx="3857400" cy="51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21589800">
            <a:off x="6976440" y="3978000"/>
            <a:ext cx="271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orward coupling,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rebuchet MS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6826320" y="4448160"/>
            <a:ext cx="2492280" cy="17985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6838920" y="4435560"/>
            <a:ext cx="2492280" cy="1798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6937200" y="4508640"/>
                <a:ext cx="649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6972120" y="1420920"/>
            <a:ext cx="226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put coupling,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5"/>
          <a:stretch/>
        </p:blipFill>
        <p:spPr>
          <a:xfrm>
            <a:off x="6815160" y="1901880"/>
            <a:ext cx="2492280" cy="1798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937200" y="1974960"/>
                <a:ext cx="419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4624560" y="6369120"/>
            <a:ext cx="5673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ior densit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sterior densit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true values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33960" y="6548400"/>
            <a:ext cx="411120" cy="0"/>
          </a:xfrm>
          <a:prstGeom prst="line">
            <a:avLst/>
          </a:prstGeom>
          <a:ln w="38160">
            <a:solidFill>
              <a:srgbClr val="3636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93160" y="6564240"/>
            <a:ext cx="36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651960" y="6581880"/>
            <a:ext cx="4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14080" y="-7488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rameter estimation: 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10640" y="278928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/>
          <p:nvPr/>
        </p:nvCxnSpPr>
        <p:spPr>
          <a:xfrm flipV="1" rot="10800000">
            <a:off x="716760" y="4016160"/>
            <a:ext cx="1080" cy="1226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9" idx="2"/>
          </p:cNvCxnSpPr>
          <p:nvPr/>
        </p:nvCxnSpPr>
        <p:spPr>
          <a:xfrm>
            <a:off x="896400" y="3125880"/>
            <a:ext cx="1044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169920" y="4356000"/>
                <a:ext cx="449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761040" y="3584520"/>
            <a:ext cx="35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7200" y="518796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328840" y="2670120"/>
            <a:ext cx="33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imulated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endCxn id="494" idx="0"/>
          </p:cNvCxnSpPr>
          <p:nvPr/>
        </p:nvCxnSpPr>
        <p:spPr>
          <a:xfrm>
            <a:off x="896400" y="3430440"/>
            <a:ext cx="108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1120" y="76320"/>
            <a:ext cx="8259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9520" y="914400"/>
            <a:ext cx="6559560" cy="96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521000"/>
            <a:ext cx="6086520" cy="422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ling of fM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7760" y="2696040"/>
            <a:ext cx="3011400" cy="3988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initions &amp; mo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2840" y="3640320"/>
            <a:ext cx="4902120" cy="86256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uronal model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bilinear dynam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Haemodyna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119920"/>
            <a:ext cx="4098960" cy="3988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timation: Bayesia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46360" y="6058440"/>
            <a:ext cx="3098880" cy="3988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abc9c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CM latest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65120" y="185760"/>
            <a:ext cx="93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Inference about DCM parameters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single-subjec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8960" y="1674720"/>
            <a:ext cx="964908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yesian parameter estim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DCM: Gaussia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umptions about the posterior distributions of th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probability that a parameter (or contrast of parameter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|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is above a chosen threshol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381480" y="3800520"/>
            <a:ext cx="3516120" cy="2103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0" name=""/>
          <p:cNvSpPr/>
          <p:nvPr/>
        </p:nvSpPr>
        <p:spPr>
          <a:xfrm>
            <a:off x="3558240" y="36990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Symbol"/>
                <a:ea typeface="Symbol"/>
              </a:rPr>
              <a:t>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56240" y="3801960"/>
            <a:ext cx="1440" cy="1914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00760" y="3879720"/>
            <a:ext cx="89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808080"/>
                </a:solidFill>
                <a:latin typeface="Arial Unicode MS"/>
              </a:rPr>
              <a:t>η</a:t>
            </a:r>
            <a:r>
              <a:rPr b="0" lang="el-GR" sz="2400" spc="-1" strike="noStrike" baseline="-25000">
                <a:solidFill>
                  <a:srgbClr val="808080"/>
                </a:solidFill>
                <a:latin typeface="Arial Unicode MS"/>
              </a:rPr>
              <a:t>θ</a:t>
            </a:r>
            <a:r>
              <a:rPr b="0" lang="en-GB" sz="2400" spc="-1" strike="noStrike" baseline="-25000">
                <a:solidFill>
                  <a:srgbClr val="808080"/>
                </a:solidFill>
                <a:latin typeface="Arial Unicode MS"/>
              </a:rPr>
              <a:t>|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660920" y="4083120"/>
            <a:ext cx="355680" cy="14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994200" y="3971880"/>
            <a:ext cx="350640" cy="1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13000" y="3308400"/>
            <a:ext cx="367344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27560" y="4498920"/>
            <a:ext cx="384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5279040" y="4487040"/>
            <a:ext cx="311292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14080" y="216000"/>
            <a:ext cx="92581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Model comparison and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160" y="1546200"/>
            <a:ext cx="41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competing hypothe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model is the b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14480" y="2606760"/>
            <a:ext cx="360360" cy="1225440"/>
          </a:xfrm>
          <a:prstGeom prst="downArrow">
            <a:avLst>
              <a:gd name="adj1" fmla="val 50000"/>
              <a:gd name="adj2" fmla="val 8501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654440" y="1197000"/>
            <a:ext cx="5487840" cy="4841640"/>
            <a:chOff x="4654440" y="1197000"/>
            <a:chExt cx="5487840" cy="4841640"/>
          </a:xfrm>
        </p:grpSpPr>
        <p:sp>
          <p:nvSpPr>
            <p:cNvPr id="532" name=""/>
            <p:cNvSpPr/>
            <p:nvPr/>
          </p:nvSpPr>
          <p:spPr>
            <a:xfrm>
              <a:off x="4654440" y="1197000"/>
              <a:ext cx="5487840" cy="4563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4654440" y="1297440"/>
              <a:ext cx="5374440" cy="438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4" name=""/>
            <p:cNvSpPr/>
            <p:nvPr/>
          </p:nvSpPr>
          <p:spPr>
            <a:xfrm>
              <a:off x="7815600" y="5762160"/>
              <a:ext cx="220068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Unicode MS"/>
                </a:rPr>
                <a:t>Pitt &amp; Miyung (2002), </a:t>
              </a:r>
              <a:r>
                <a:rPr b="1" i="1" lang="en-GB" sz="1200" spc="-1" strike="noStrike">
                  <a:solidFill>
                    <a:srgbClr val="000000"/>
                  </a:solidFill>
                  <a:latin typeface="Arial Unicode MS"/>
                </a:rPr>
                <a:t>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58920" y="3987720"/>
                <a:ext cx="3816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curacy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lexity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93600" y="5219640"/>
                <a:ext cx="22100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7" name=""/>
          <p:cNvCxnSpPr>
            <a:stCxn id="538" idx="3"/>
          </p:cNvCxnSpPr>
          <p:nvPr/>
        </p:nvCxnSpPr>
        <p:spPr>
          <a:xfrm flipV="1">
            <a:off x="9259920" y="4397040"/>
            <a:ext cx="521280" cy="7516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8082000" y="5883120"/>
            <a:ext cx="453960" cy="3603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8" idx="2"/>
            <a:endCxn id="539" idx="6"/>
          </p:cNvCxnSpPr>
          <p:nvPr/>
        </p:nvCxnSpPr>
        <p:spPr>
          <a:xfrm rot="5400000">
            <a:off x="8414640" y="5451120"/>
            <a:ext cx="734040" cy="49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1" name=""/>
          <p:cNvCxnSpPr>
            <a:stCxn id="538" idx="1"/>
            <a:endCxn id="539" idx="0"/>
          </p:cNvCxnSpPr>
          <p:nvPr/>
        </p:nvCxnSpPr>
        <p:spPr>
          <a:xfrm flipV="1" rot="10800000">
            <a:off x="8308080" y="5146920"/>
            <a:ext cx="488160" cy="7351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43" idx="0"/>
          </p:cNvCxnSpPr>
          <p:nvPr/>
        </p:nvCxnSpPr>
        <p:spPr>
          <a:xfrm flipH="1" flipV="1">
            <a:off x="8883000" y="5826960"/>
            <a:ext cx="470520" cy="44532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9" idx="1"/>
          </p:cNvCxnSpPr>
          <p:nvPr/>
        </p:nvCxnSpPr>
        <p:spPr>
          <a:xfrm flipH="1" flipV="1">
            <a:off x="7705440" y="5214600"/>
            <a:ext cx="443520" cy="7214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  <p:sp>
        <p:nvSpPr>
          <p:cNvPr id="545" name=""/>
          <p:cNvSpPr/>
          <p:nvPr/>
        </p:nvSpPr>
        <p:spPr>
          <a:xfrm>
            <a:off x="8091720" y="5878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548640" y="4075200"/>
            <a:ext cx="457200" cy="3603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766000" y="4944960"/>
            <a:ext cx="500400" cy="3920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798040" y="4964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489240" y="40575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22000" y="42782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h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rcRect l="8018" t="7202" r="9525" b="67352"/>
          <a:stretch/>
        </p:blipFill>
        <p:spPr>
          <a:xfrm>
            <a:off x="6811920" y="4583160"/>
            <a:ext cx="1603440" cy="5713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rcRect l="8135" t="67030" r="8598" b="7562"/>
          <a:stretch/>
        </p:blipFill>
        <p:spPr>
          <a:xfrm>
            <a:off x="7805880" y="2581200"/>
            <a:ext cx="1619280" cy="5716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rcRect l="7616" t="37258" r="7734" b="37935"/>
          <a:stretch/>
        </p:blipFill>
        <p:spPr>
          <a:xfrm>
            <a:off x="8531280" y="6272280"/>
            <a:ext cx="1644480" cy="5572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9438120" y="597060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890480" y="31384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ime [s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21000" y="228456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7280" y="1108080"/>
            <a:ext cx="77202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d this model to assess the site o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ttention modul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ur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isual motion process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an fMRI paradigm reported b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hel &amp; Fris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1800" y="6400800"/>
            <a:ext cx="144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iston et al. 2003,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Neuro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4040" y="150840"/>
            <a:ext cx="9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Attention to motion in the visual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3548160" y="2744640"/>
            <a:ext cx="3379680" cy="1503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-4320" y="4672080"/>
            <a:ext cx="7225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ixation onl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serve static do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photi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V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observe moving do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mo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V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sk on moving do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atten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V5 + parietal cort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46" idx="2"/>
            <a:endCxn id="538" idx="0"/>
          </p:cNvCxnSpPr>
          <p:nvPr/>
        </p:nvCxnSpPr>
        <p:spPr>
          <a:xfrm flipV="1" rot="10800000">
            <a:off x="9027360" y="4254840"/>
            <a:ext cx="521280" cy="708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"/>
          <p:cNvCxnSpPr/>
          <p:nvPr/>
        </p:nvCxnSpPr>
        <p:spPr>
          <a:xfrm>
            <a:off x="8615520" y="3152880"/>
            <a:ext cx="18000" cy="9770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grpSp>
        <p:nvGrpSpPr>
          <p:cNvPr id="563" name=""/>
          <p:cNvGrpSpPr/>
          <p:nvPr/>
        </p:nvGrpSpPr>
        <p:grpSpPr>
          <a:xfrm>
            <a:off x="966960" y="2751120"/>
            <a:ext cx="1733400" cy="1482840"/>
            <a:chOff x="966960" y="2751120"/>
            <a:chExt cx="1733400" cy="1482840"/>
          </a:xfrm>
        </p:grpSpPr>
        <p:pic>
          <p:nvPicPr>
            <p:cNvPr id="564" name="" descr=""/>
            <p:cNvPicPr/>
            <p:nvPr/>
          </p:nvPicPr>
          <p:blipFill>
            <a:blip r:embed="rId5"/>
            <a:stretch/>
          </p:blipFill>
          <p:spPr>
            <a:xfrm>
              <a:off x="966960" y="2751120"/>
              <a:ext cx="1733400" cy="14828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565" name=""/>
            <p:cNvSpPr/>
            <p:nvPr/>
          </p:nvSpPr>
          <p:spPr>
            <a:xfrm flipH="1">
              <a:off x="1679760" y="3492360"/>
              <a:ext cx="163080" cy="3654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1679760" y="3108960"/>
              <a:ext cx="163080" cy="382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43560" y="3492360"/>
              <a:ext cx="394200" cy="39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14400" y="3473640"/>
              <a:ext cx="50040" cy="46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8659800" y="33289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363760" y="2962440"/>
            <a:ext cx="531720" cy="533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451960" y="30686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29000" y="3495600"/>
            <a:ext cx="534960" cy="533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17920" y="36021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V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49680" y="2335320"/>
            <a:ext cx="531720" cy="533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729600" y="24415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S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88240" y="3830760"/>
            <a:ext cx="858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33880" y="2355840"/>
            <a:ext cx="772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h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760" y="4129200"/>
            <a:ext cx="106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 Unicode MS"/>
              </a:rPr>
              <a:t>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0" idx="5"/>
            <a:endCxn id="572" idx="2"/>
          </p:cNvCxnSpPr>
          <p:nvPr/>
        </p:nvCxnSpPr>
        <p:spPr>
          <a:xfrm flipH="1" rot="16200000">
            <a:off x="2950920" y="3283920"/>
            <a:ext cx="345240" cy="61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0" name=""/>
          <p:cNvCxnSpPr>
            <a:stCxn id="572" idx="1"/>
            <a:endCxn id="570" idx="6"/>
          </p:cNvCxnSpPr>
          <p:nvPr/>
        </p:nvCxnSpPr>
        <p:spPr>
          <a:xfrm flipV="1" rot="16200000">
            <a:off x="3028320" y="3094560"/>
            <a:ext cx="345240" cy="61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1" name=""/>
          <p:cNvSpPr/>
          <p:nvPr/>
        </p:nvSpPr>
        <p:spPr>
          <a:xfrm>
            <a:off x="3494160" y="2838600"/>
            <a:ext cx="290520" cy="72072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104" y="0"/>
                </a:moveTo>
                <a:cubicBezTo>
                  <a:pt x="60" y="88"/>
                  <a:pt x="16" y="176"/>
                  <a:pt x="8" y="240"/>
                </a:cubicBezTo>
                <a:cubicBezTo>
                  <a:pt x="0" y="304"/>
                  <a:pt x="28" y="344"/>
                  <a:pt x="5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735360" y="2838240"/>
            <a:ext cx="120600" cy="65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424240" y="3552480"/>
            <a:ext cx="431640" cy="28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endCxn id="570" idx="1"/>
          </p:cNvCxnSpPr>
          <p:nvPr/>
        </p:nvCxnSpPr>
        <p:spPr>
          <a:xfrm>
            <a:off x="2049120" y="2703240"/>
            <a:ext cx="39276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2144880" y="2543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0.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1440" y="351468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0.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75040" y="344484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-0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740320" y="28335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1.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45040" y="266688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0.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2809800"/>
            <a:ext cx="5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0.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692440" y="3692160"/>
            <a:ext cx="430200" cy="28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75240" y="38480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 Unicode MS"/>
              </a:rPr>
              <a:t>0.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14720" y="1023840"/>
            <a:ext cx="293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 Unicode MS"/>
              </a:rPr>
              <a:t>Model 1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ttentional modul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of V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→V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721840" y="1058760"/>
            <a:ext cx="3012840" cy="3069360"/>
            <a:chOff x="5721840" y="1058760"/>
            <a:chExt cx="3012840" cy="3069360"/>
          </a:xfrm>
        </p:grpSpPr>
        <p:grpSp>
          <p:nvGrpSpPr>
            <p:cNvPr id="595" name=""/>
            <p:cNvGrpSpPr/>
            <p:nvPr/>
          </p:nvGrpSpPr>
          <p:grpSpPr>
            <a:xfrm>
              <a:off x="6866280" y="2973240"/>
              <a:ext cx="533160" cy="533520"/>
              <a:chOff x="6866280" y="2973240"/>
              <a:chExt cx="533160" cy="533520"/>
            </a:xfrm>
          </p:grpSpPr>
          <p:sp>
            <p:nvSpPr>
              <p:cNvPr id="596" name=""/>
              <p:cNvSpPr/>
              <p:nvPr/>
            </p:nvSpPr>
            <p:spPr>
              <a:xfrm>
                <a:off x="6866280" y="2973240"/>
                <a:ext cx="533160" cy="53352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46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954840" y="3079800"/>
                <a:ext cx="36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Unicode MS"/>
                  </a:rPr>
                  <a:t>V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7932960" y="3506760"/>
              <a:ext cx="533520" cy="533160"/>
              <a:chOff x="7932960" y="3506760"/>
              <a:chExt cx="533520" cy="533160"/>
            </a:xfrm>
          </p:grpSpPr>
          <p:sp>
            <p:nvSpPr>
              <p:cNvPr id="599" name=""/>
              <p:cNvSpPr/>
              <p:nvPr/>
            </p:nvSpPr>
            <p:spPr>
              <a:xfrm>
                <a:off x="7932960" y="350676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46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021880" y="3612600"/>
                <a:ext cx="36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Unicode MS"/>
                  </a:rPr>
                  <a:t>V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8151840" y="2346120"/>
              <a:ext cx="539280" cy="533520"/>
              <a:chOff x="8151840" y="2346120"/>
              <a:chExt cx="539280" cy="533520"/>
            </a:xfrm>
          </p:grpSpPr>
          <p:sp>
            <p:nvSpPr>
              <p:cNvPr id="602" name=""/>
              <p:cNvSpPr/>
              <p:nvPr/>
            </p:nvSpPr>
            <p:spPr>
              <a:xfrm>
                <a:off x="8151840" y="234612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46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233200" y="2452320"/>
                <a:ext cx="45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Unicode MS"/>
                  </a:rPr>
                  <a:t>S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6233760" y="3790800"/>
              <a:ext cx="858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Mo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09480" y="2367000"/>
              <a:ext cx="7722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Pho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09480" y="2243160"/>
              <a:ext cx="1067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80"/>
                  </a:solidFill>
                  <a:latin typeface="Arial Unicode MS"/>
                </a:rPr>
                <a:t>Att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6" idx="5"/>
              <a:endCxn id="599" idx="2"/>
            </p:cNvCxnSpPr>
            <p:nvPr/>
          </p:nvCxnSpPr>
          <p:spPr>
            <a:xfrm flipH="1" rot="16200000">
              <a:off x="7454880" y="3295080"/>
              <a:ext cx="345240" cy="612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8" name=""/>
            <p:cNvCxnSpPr>
              <a:stCxn id="599" idx="1"/>
              <a:endCxn id="596" idx="6"/>
            </p:cNvCxnSpPr>
            <p:nvPr/>
          </p:nvCxnSpPr>
          <p:spPr>
            <a:xfrm flipV="1" rot="16200000">
              <a:off x="7532280" y="3105720"/>
              <a:ext cx="345240" cy="612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9" name=""/>
            <p:cNvSpPr/>
            <p:nvPr/>
          </p:nvSpPr>
          <p:spPr>
            <a:xfrm>
              <a:off x="7998120" y="2849400"/>
              <a:ext cx="290520" cy="720720"/>
            </a:xfrm>
            <a:custGeom>
              <a:avLst/>
              <a:gdLst/>
              <a:ahLst/>
              <a:rect l="l" t="t" r="r" b="b"/>
              <a:pathLst>
                <a:path w="104" h="384">
                  <a:moveTo>
                    <a:pt x="104" y="0"/>
                  </a:moveTo>
                  <a:cubicBezTo>
                    <a:pt x="60" y="88"/>
                    <a:pt x="16" y="176"/>
                    <a:pt x="8" y="240"/>
                  </a:cubicBezTo>
                  <a:cubicBezTo>
                    <a:pt x="0" y="304"/>
                    <a:pt x="28" y="344"/>
                    <a:pt x="56" y="38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237880" y="2849400"/>
              <a:ext cx="122040" cy="65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953400" y="3550680"/>
              <a:ext cx="432000" cy="289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2" name=""/>
            <p:cNvCxnSpPr>
              <a:endCxn id="596" idx="1"/>
            </p:cNvCxnSpPr>
            <p:nvPr/>
          </p:nvCxnSpPr>
          <p:spPr>
            <a:xfrm>
              <a:off x="6551640" y="2714040"/>
              <a:ext cx="393120" cy="33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3" name=""/>
            <p:cNvSpPr/>
            <p:nvPr/>
          </p:nvSpPr>
          <p:spPr>
            <a:xfrm>
              <a:off x="7521840" y="2554200"/>
              <a:ext cx="500040" cy="698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67920" y="265716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0.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550200" y="351792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0.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53080" y="3495600"/>
              <a:ext cx="53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-0.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17000" y="294480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1.4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550640" y="25495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9999"/>
                  </a:solidFill>
                  <a:latin typeface="Arial Unicode MS"/>
                </a:rPr>
                <a:t>0.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32880" y="277020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0.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52280" y="296532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 Unicode MS"/>
                </a:rPr>
                <a:t>0.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21840" y="1058760"/>
              <a:ext cx="293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Arial Unicode MS"/>
                </a:rPr>
                <a:t>Model 2: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 Unicode MS"/>
                </a:rPr>
                <a:t>attentional modulation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 Unicode MS"/>
                </a:rPr>
                <a:t>of SPC→V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750960" y="100080"/>
            <a:ext cx="8744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Comparison of two simple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6400" y="4734000"/>
            <a:ext cx="9215640" cy="22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ayesian model selection: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Model 1 better than mode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ecision for 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odel 1: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n this experiment, atten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rimarily modulates V1→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5605560" y="5268960"/>
          <a:ext cx="313056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560" y="5268960"/>
                    <a:ext cx="31305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50920" y="1123920"/>
            <a:ext cx="4871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39640" indent="-53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otential timing problem in DC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mporal shift between regional time series because of multi-slice acq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7680" y="3946680"/>
            <a:ext cx="93614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39640" indent="-53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olu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34136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ing of (known) slice timing of each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91280" y="1052640"/>
            <a:ext cx="3155760" cy="25192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629" name=""/>
          <p:cNvSpPr/>
          <p:nvPr/>
        </p:nvSpPr>
        <p:spPr>
          <a:xfrm>
            <a:off x="6108840" y="1270080"/>
            <a:ext cx="33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08840" y="1486080"/>
            <a:ext cx="33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108840" y="1701720"/>
            <a:ext cx="33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108840" y="1917720"/>
            <a:ext cx="33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108840" y="2133720"/>
            <a:ext cx="33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108840" y="2349360"/>
            <a:ext cx="33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08840" y="2565360"/>
            <a:ext cx="33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108840" y="2781360"/>
            <a:ext cx="33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08840" y="2997360"/>
            <a:ext cx="33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699400" y="2349360"/>
            <a:ext cx="216000" cy="216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39040" y="1449360"/>
            <a:ext cx="216000" cy="216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634680" y="2421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561600" y="2421000"/>
            <a:ext cx="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563040" y="2997360"/>
            <a:ext cx="7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9632520" y="1486080"/>
            <a:ext cx="1800" cy="86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559800" y="1486080"/>
            <a:ext cx="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561600" y="2349360"/>
            <a:ext cx="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688680" y="244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687240" y="1701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65840" y="112536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4887720" y="190116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lice acqui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465480" y="3213000"/>
            <a:ext cx="7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isual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8814960" y="2565360"/>
            <a:ext cx="72252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8528040" y="1699920"/>
            <a:ext cx="216000" cy="64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80480" y="179280"/>
            <a:ext cx="69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Extension I: Slice tim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98640" y="5213520"/>
            <a:ext cx="755028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ce timing extension now allows for any slice timing difference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ng TRs (&gt; 2 sec) no longer a limi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Kiebel et al., 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4856040" y="3419640"/>
            <a:ext cx="4732560" cy="292716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74120" y="1763640"/>
            <a:ext cx="12142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22400" y="3419640"/>
            <a:ext cx="4417920" cy="292716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1984320" y="1724040"/>
          <a:ext cx="2268720" cy="18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4320" y="1724040"/>
                    <a:ext cx="2268720" cy="1839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3641760" y="2382840"/>
            <a:ext cx="384120" cy="34128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38400" y="2303640"/>
            <a:ext cx="255600" cy="22860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62240" y="1962000"/>
            <a:ext cx="257400" cy="22860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06640" y="2646360"/>
            <a:ext cx="255600" cy="227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1" idx="4"/>
            <a:endCxn id="663" idx="3"/>
          </p:cNvCxnSpPr>
          <p:nvPr/>
        </p:nvCxnSpPr>
        <p:spPr>
          <a:xfrm flipH="1" rot="16200000">
            <a:off x="2450160" y="2347560"/>
            <a:ext cx="308520" cy="677160"/>
          </a:xfrm>
          <a:prstGeom prst="curvedConnector5">
            <a:avLst>
              <a:gd name="adj1" fmla="val 184462"/>
              <a:gd name="adj2" fmla="val 50000"/>
              <a:gd name="adj3" fmla="val 1844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61" idx="6"/>
            <a:endCxn id="660" idx="2"/>
          </p:cNvCxnSpPr>
          <p:nvPr/>
        </p:nvCxnSpPr>
        <p:spPr>
          <a:xfrm>
            <a:off x="2394000" y="2417400"/>
            <a:ext cx="1248480" cy="137160"/>
          </a:xfrm>
          <a:prstGeom prst="curvedConnector5">
            <a:avLst>
              <a:gd name="adj1" fmla="val 49870"/>
              <a:gd name="adj2" fmla="val 50000"/>
              <a:gd name="adj3" fmla="val 49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63" idx="7"/>
            <a:endCxn id="662" idx="4"/>
          </p:cNvCxnSpPr>
          <p:nvPr/>
        </p:nvCxnSpPr>
        <p:spPr>
          <a:xfrm flipH="1" flipV="1" rot="5400000">
            <a:off x="2962080" y="2351520"/>
            <a:ext cx="489600" cy="167040"/>
          </a:xfrm>
          <a:prstGeom prst="curvedConnector5">
            <a:avLst>
              <a:gd name="adj1" fmla="val 53274"/>
              <a:gd name="adj2" fmla="val 49892"/>
              <a:gd name="adj3" fmla="val 532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 flipV="1">
            <a:off x="1741320" y="2410920"/>
            <a:ext cx="40824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174680" y="2268360"/>
                <a:ext cx="4399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712960" y="3056040"/>
                <a:ext cx="7574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1093680" y="19796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07240" y="133200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gle-state D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3780000" y="2425680"/>
                <a:ext cx="1695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6539040" y="6445080"/>
            <a:ext cx="21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insic (within-region) coup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53040" y="6445080"/>
            <a:ext cx="240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insic (between-region) coup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719280" y="4021200"/>
                <a:ext cx="30826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uB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e/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1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r>
                                          <m:t xml:space="preserve">⋯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⋮</m:t>
                                        </m:r>
                                      </m:e>
                                      <m:e>
                                        <m:r>
                                          <m:t xml:space="preserve">⋱</m:t>
                                        </m:r>
                                      </m:e>
                                      <m:e>
                                        <m:r>
                                          <m:t xml:space="preserve">⋮</m:t>
                                        </m:r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  <m:e>
                                        <m:r>
                                          <m:t xml:space="preserve">…</m:t>
                                        </m:r>
                                      </m:e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N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m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⋮</m:t>
                                        </m:r>
                                      </m:e>
                                    </m:mr>
                                    <m:m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5591880" y="1332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-state D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5162400" y="1724040"/>
          <a:ext cx="2267280" cy="183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62400" y="1724040"/>
                    <a:ext cx="2267280" cy="1839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818400" y="2382840"/>
            <a:ext cx="384120" cy="34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15040" y="2303640"/>
            <a:ext cx="255600" cy="22860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38880" y="1962000"/>
            <a:ext cx="257040" cy="22860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83280" y="2646360"/>
            <a:ext cx="255600" cy="227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0" idx="4"/>
            <a:endCxn id="682" idx="3"/>
          </p:cNvCxnSpPr>
          <p:nvPr/>
        </p:nvCxnSpPr>
        <p:spPr>
          <a:xfrm flipH="1" rot="16200000">
            <a:off x="5627520" y="2346840"/>
            <a:ext cx="308520" cy="678600"/>
          </a:xfrm>
          <a:prstGeom prst="curvedConnector5">
            <a:avLst>
              <a:gd name="adj1" fmla="val 184462"/>
              <a:gd name="adj2" fmla="val 50000"/>
              <a:gd name="adj3" fmla="val 1844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80" idx="6"/>
            <a:endCxn id="679" idx="2"/>
          </p:cNvCxnSpPr>
          <p:nvPr/>
        </p:nvCxnSpPr>
        <p:spPr>
          <a:xfrm>
            <a:off x="5570640" y="2417400"/>
            <a:ext cx="1248480" cy="137160"/>
          </a:xfrm>
          <a:prstGeom prst="curvedConnector5">
            <a:avLst>
              <a:gd name="adj1" fmla="val 49870"/>
              <a:gd name="adj2" fmla="val 50000"/>
              <a:gd name="adj3" fmla="val 49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82" idx="7"/>
            <a:endCxn id="681" idx="4"/>
          </p:cNvCxnSpPr>
          <p:nvPr/>
        </p:nvCxnSpPr>
        <p:spPr>
          <a:xfrm flipH="1" flipV="1" rot="5400000">
            <a:off x="6138720" y="2351520"/>
            <a:ext cx="489600" cy="167040"/>
          </a:xfrm>
          <a:prstGeom prst="curvedConnector5">
            <a:avLst>
              <a:gd name="adj1" fmla="val 53274"/>
              <a:gd name="adj2" fmla="val 49892"/>
              <a:gd name="adj3" fmla="val 532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8159760" y="2195640"/>
                <a:ext cx="22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E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5813280" y="3060720"/>
                <a:ext cx="12225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88" name=""/>
          <p:cNvCxnSpPr>
            <a:stCxn id="679" idx="0"/>
            <a:endCxn id="656" idx="0"/>
          </p:cNvCxnSpPr>
          <p:nvPr/>
        </p:nvCxnSpPr>
        <p:spPr>
          <a:xfrm flipV="1">
            <a:off x="7012080" y="1763280"/>
            <a:ext cx="1270800" cy="6199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689" name=""/>
          <p:cNvCxnSpPr>
            <a:stCxn id="679" idx="4"/>
            <a:endCxn id="656" idx="4"/>
          </p:cNvCxnSpPr>
          <p:nvPr/>
        </p:nvCxnSpPr>
        <p:spPr>
          <a:xfrm>
            <a:off x="7012080" y="2723760"/>
            <a:ext cx="1270800" cy="624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690" name=""/>
          <p:cNvCxnSpPr/>
          <p:nvPr/>
        </p:nvCxnSpPr>
        <p:spPr>
          <a:xfrm flipH="1" flipV="1" rot="10800000">
            <a:off x="8158680" y="2308680"/>
            <a:ext cx="227880" cy="2520"/>
          </a:xfrm>
          <a:prstGeom prst="curvedConnector5">
            <a:avLst>
              <a:gd name="adj1" fmla="val -100632"/>
              <a:gd name="adj2" fmla="val -10800000"/>
              <a:gd name="adj3" fmla="val -100632"/>
            </a:avLst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graphicFrame>
        <p:nvGraphicFramePr>
          <p:cNvPr id="691" name=""/>
          <p:cNvGraphicFramePr/>
          <p:nvPr/>
        </p:nvGraphicFramePr>
        <p:xfrm>
          <a:off x="8159760" y="2700360"/>
          <a:ext cx="198360" cy="2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59760" y="2700360"/>
                    <a:ext cx="198360" cy="228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693" name=""/>
          <p:cNvCxnSpPr/>
          <p:nvPr/>
        </p:nvCxnSpPr>
        <p:spPr>
          <a:xfrm flipH="1">
            <a:off x="8159040" y="2814120"/>
            <a:ext cx="199080" cy="2520"/>
          </a:xfrm>
          <a:prstGeom prst="curvedConnector5">
            <a:avLst>
              <a:gd name="adj1" fmla="val -114311"/>
              <a:gd name="adj2" fmla="val 10600000"/>
              <a:gd name="adj3" fmla="val -114311"/>
            </a:avLst>
          </a:prstGeom>
          <a:ln w="93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cxnSp>
        <p:nvCxnSpPr>
          <p:cNvPr id="694" name=""/>
          <p:cNvCxnSpPr/>
          <p:nvPr/>
        </p:nvCxnSpPr>
        <p:spPr>
          <a:xfrm flipH="1" rot="10800000">
            <a:off x="8159400" y="2309040"/>
            <a:ext cx="2160" cy="505440"/>
          </a:xfrm>
          <a:prstGeom prst="curvedConnector5">
            <a:avLst>
              <a:gd name="adj1" fmla="val -14400000"/>
              <a:gd name="adj2" fmla="val 49964"/>
              <a:gd name="adj3" fmla="val -14400000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95" name=""/>
          <p:cNvCxnSpPr/>
          <p:nvPr/>
        </p:nvCxnSpPr>
        <p:spPr>
          <a:xfrm flipH="1">
            <a:off x="8357760" y="2309760"/>
            <a:ext cx="29520" cy="505440"/>
          </a:xfrm>
          <a:prstGeom prst="curvedConnector5">
            <a:avLst>
              <a:gd name="adj1" fmla="val -793827"/>
              <a:gd name="adj2" fmla="val 49964"/>
              <a:gd name="adj3" fmla="val -793827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aphicFrame>
        <p:nvGraphicFramePr>
          <p:cNvPr id="696" name=""/>
          <p:cNvGraphicFramePr/>
          <p:nvPr/>
        </p:nvGraphicFramePr>
        <p:xfrm>
          <a:off x="8405640" y="2397240"/>
          <a:ext cx="156528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405640" y="2397240"/>
                    <a:ext cx="156528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6880320" y="2411280"/>
                <a:ext cx="29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 flipV="1">
            <a:off x="5484960" y="5757480"/>
            <a:ext cx="144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7429680" y="5757480"/>
            <a:ext cx="144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95680" y="2700360"/>
            <a:ext cx="405000" cy="144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32716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012680" y="6496200"/>
                <a:ext cx="22402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z</m:t>
                    </m:r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1814760" y="179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Extension II: Two-stat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964040" y="3720960"/>
            <a:ext cx="5153760" cy="2397960"/>
            <a:chOff x="4964040" y="3720960"/>
            <a:chExt cx="5153760" cy="2397960"/>
          </a:xfrm>
        </p:grpSpPr>
        <p:sp>
          <p:nvSpPr>
            <p:cNvPr id="706" name=""/>
            <p:cNvSpPr/>
            <p:nvPr/>
          </p:nvSpPr>
          <p:spPr>
            <a:xfrm>
              <a:off x="6630840" y="3997440"/>
              <a:ext cx="24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060560" y="5746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060560" y="5556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060560" y="53658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060560" y="5175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060560" y="4984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060560" y="4792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060560" y="5859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060560" y="4602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701640" y="5746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701640" y="5556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701640" y="53658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9701640" y="5175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701640" y="49849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9701640" y="47926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701640" y="58593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701640" y="46022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80240" y="51973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776440" y="5729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776440" y="55389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776440" y="5348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776440" y="5157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6440" y="49672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776440" y="4776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776440" y="58752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776440" y="4586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75880" y="5729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75880" y="55389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75880" y="5348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75880" y="515772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5880" y="49672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75880" y="47768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75880" y="58752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75880" y="4586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225640" y="58276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225640" y="5529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41560" y="55292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78040" y="4933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63640" y="4635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85680" y="4635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54480" y="51973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52400" y="38466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997680" y="384660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36320" y="4002120"/>
              <a:ext cx="109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21920" y="3720960"/>
              <a:ext cx="109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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880200" y="5815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874080" y="59529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884880" y="551664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874080" y="56545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896040" y="49197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886680" y="46213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56400" y="58323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86280" y="58323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456400" y="55339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71960" y="55339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40120" y="552924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08440" y="493884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44800" y="493884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98880" y="46339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94040" y="464040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16080" y="464040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65400" y="385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777600" y="58294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777600" y="55306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9793440" y="49338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779040" y="46353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263160" y="52196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077400" y="521964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345520" y="58500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75400" y="585000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345520" y="5551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61440" y="5551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529240" y="5551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397560" y="49561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33920" y="495612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86560" y="46576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83520" y="46576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605560" y="46576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64040" y="52196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111520" y="3868560"/>
              <a:ext cx="23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83560" y="38685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97920" y="3868560"/>
              <a:ext cx="24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26320" y="40244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15160" y="374328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32000" y="5811840"/>
              <a:ext cx="58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28760" y="589284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N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666560" y="5811840"/>
              <a:ext cx="83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I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658640" y="589284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N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534880" y="5513400"/>
              <a:ext cx="83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E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528760" y="559440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N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53680" y="551340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44320" y="559440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N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06360" y="55944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84040" y="4917960"/>
              <a:ext cx="58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4720" y="4917960"/>
              <a:ext cx="83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I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708320" y="469908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572520" y="4619520"/>
              <a:ext cx="83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E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799600" y="4619520"/>
              <a:ext cx="107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700" spc="-1" strike="noStrike">
                  <a:solidFill>
                    <a:srgbClr val="000000"/>
                  </a:solidFill>
                  <a:latin typeface="Times New Roman"/>
                </a:rPr>
                <a:t>E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857520" y="518004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994440" y="579744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422560" y="520236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13520" y="5202360"/>
              <a:ext cx="16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79360" y="520236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994440" y="460548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9867240" y="5057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851400" y="4759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344160" y="5219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185400" y="5219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420960" y="5850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54160" y="58500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20960" y="55515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397360" y="4956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12920" y="4956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397360" y="46576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683840" y="3868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75880" y="38685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783040" y="559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62800" y="4997520"/>
              <a:ext cx="89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00600" y="4997520"/>
              <a:ext cx="89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648560" y="46990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48400" y="4699080"/>
              <a:ext cx="89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72240" y="4699080"/>
              <a:ext cx="89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" descr=""/>
          <p:cNvPicPr/>
          <p:nvPr/>
        </p:nvPicPr>
        <p:blipFill>
          <a:blip r:embed="rId1"/>
          <a:srcRect l="0" t="0" r="0" b="69271"/>
          <a:stretch/>
        </p:blipFill>
        <p:spPr>
          <a:xfrm>
            <a:off x="1217520" y="96840"/>
            <a:ext cx="4184640" cy="210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6168960" y="914400"/>
                <a:ext cx="34736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8515440" y="1335240"/>
            <a:ext cx="539640" cy="179280"/>
          </a:xfrm>
          <a:prstGeom prst="rect">
            <a:avLst/>
          </a:prstGeom>
          <a:noFill/>
          <a:ln w="22320">
            <a:solidFill>
              <a:srgbClr val="00b4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8933040" y="750600"/>
            <a:ext cx="134640" cy="593640"/>
          </a:xfrm>
          <a:prstGeom prst="line">
            <a:avLst/>
          </a:prstGeom>
          <a:ln w="19080">
            <a:solidFill>
              <a:srgbClr val="00b4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680320" y="620640"/>
            <a:ext cx="7542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18000" bIns="18000" anchor="t">
            <a:noAutofit/>
          </a:bodyPr>
          <a:p>
            <a:pPr>
              <a:tabLst>
                <a:tab algn="l" pos="0"/>
                <a:tab algn="l" pos="4259160"/>
                <a:tab algn="l" pos="851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6213600" y="2538360"/>
            <a:ext cx="3473280" cy="1819440"/>
            <a:chOff x="6213600" y="2538360"/>
            <a:chExt cx="3473280" cy="1819440"/>
          </a:xfrm>
        </p:grpSpPr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6213600" y="3218400"/>
                  <a:ext cx="3473280" cy="11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5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5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C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C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C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C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C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5" name=""/>
            <p:cNvSpPr/>
            <p:nvPr/>
          </p:nvSpPr>
          <p:spPr>
            <a:xfrm>
              <a:off x="8102520" y="3611160"/>
              <a:ext cx="409680" cy="168120"/>
            </a:xfrm>
            <a:prstGeom prst="rect">
              <a:avLst/>
            </a:prstGeom>
            <a:noFill/>
            <a:ln w="22320">
              <a:solidFill>
                <a:srgbClr val="00b4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526600" y="2538360"/>
              <a:ext cx="734760" cy="1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18360" bIns="18360" anchor="t">
              <a:noAutofit/>
            </a:bodyPr>
            <a:p>
              <a:pPr>
                <a:tabLst>
                  <a:tab algn="l" pos="0"/>
                  <a:tab algn="l" pos="4259160"/>
                  <a:tab algn="l" pos="851868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Atten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8337240" y="2800080"/>
              <a:ext cx="534240" cy="814320"/>
            </a:xfrm>
            <a:prstGeom prst="line">
              <a:avLst/>
            </a:prstGeom>
            <a:ln w="19080">
              <a:solidFill>
                <a:srgbClr val="00b4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8" name="" descr=""/>
          <p:cNvPicPr/>
          <p:nvPr/>
        </p:nvPicPr>
        <p:blipFill>
          <a:blip r:embed="rId2"/>
          <a:srcRect l="0" t="34104" r="0" b="34939"/>
          <a:stretch/>
        </p:blipFill>
        <p:spPr>
          <a:xfrm>
            <a:off x="1198440" y="2327400"/>
            <a:ext cx="4297320" cy="21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6251400" y="5513400"/>
                <a:ext cx="35085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V</m:t>
                                  </m:r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PC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6539040" y="5896080"/>
            <a:ext cx="480960" cy="169920"/>
          </a:xfrm>
          <a:prstGeom prst="rect">
            <a:avLst/>
          </a:prstGeom>
          <a:noFill/>
          <a:ln w="22320">
            <a:solidFill>
              <a:srgbClr val="00b4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000920" y="5160960"/>
            <a:ext cx="1965240" cy="735120"/>
          </a:xfrm>
          <a:prstGeom prst="line">
            <a:avLst/>
          </a:prstGeom>
          <a:ln w="19080">
            <a:solidFill>
              <a:srgbClr val="00b4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655120" y="4884840"/>
            <a:ext cx="7365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18360" bIns="18360" anchor="t">
            <a:noAutofit/>
          </a:bodyPr>
          <a:p>
            <a:pPr>
              <a:tabLst>
                <a:tab algn="l" pos="0"/>
                <a:tab algn="l" pos="4259160"/>
                <a:tab algn="l" pos="851868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3"/>
          <a:srcRect l="0" t="69143" r="0" b="0"/>
          <a:stretch/>
        </p:blipFill>
        <p:spPr>
          <a:xfrm>
            <a:off x="1201680" y="4640400"/>
            <a:ext cx="4297320" cy="21733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5536440" y="-5256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CM fo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hel &amp; Fri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132640" y="4594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- FW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3200" y="227664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- In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116080" y="28440"/>
            <a:ext cx="6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- B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07960" y="2055960"/>
            <a:ext cx="266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-3024360" y="31989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vantGarde"/>
              </a:rPr>
              <a:t>Example: Two-state Mode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2171880" y="1589040"/>
            <a:ext cx="2525400" cy="25304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2901960" y="2019240"/>
            <a:ext cx="21744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440080" y="2679840"/>
            <a:ext cx="217440" cy="21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4200" y="2900520"/>
            <a:ext cx="217440" cy="21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00600" y="2319480"/>
            <a:ext cx="215640" cy="21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5" name=""/>
          <p:cNvCxnSpPr>
            <a:stCxn id="852" idx="5"/>
            <a:endCxn id="853" idx="2"/>
          </p:cNvCxnSpPr>
          <p:nvPr/>
        </p:nvCxnSpPr>
        <p:spPr>
          <a:xfrm>
            <a:off x="2625480" y="2863440"/>
            <a:ext cx="469080" cy="14472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52" idx="0"/>
            <a:endCxn id="851" idx="3"/>
          </p:cNvCxnSpPr>
          <p:nvPr/>
        </p:nvCxnSpPr>
        <p:spPr>
          <a:xfrm flipV="1">
            <a:off x="2549160" y="2202840"/>
            <a:ext cx="384840" cy="47700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857" name=""/>
          <p:cNvCxnSpPr>
            <a:stCxn id="851" idx="5"/>
            <a:endCxn id="854" idx="2"/>
          </p:cNvCxnSpPr>
          <p:nvPr/>
        </p:nvCxnSpPr>
        <p:spPr>
          <a:xfrm>
            <a:off x="3087720" y="2203200"/>
            <a:ext cx="813600" cy="22428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858" name=""/>
          <p:cNvCxnSpPr>
            <a:stCxn id="854" idx="3"/>
            <a:endCxn id="853" idx="7"/>
          </p:cNvCxnSpPr>
          <p:nvPr/>
        </p:nvCxnSpPr>
        <p:spPr>
          <a:xfrm flipH="1">
            <a:off x="3278880" y="2503080"/>
            <a:ext cx="653400" cy="429480"/>
          </a:xfrm>
          <a:prstGeom prst="straightConnector1">
            <a:avLst/>
          </a:prstGeom>
          <a:ln w="28440">
            <a:solidFill>
              <a:srgbClr val="ffff66"/>
            </a:solidFill>
            <a:miter/>
            <a:headEnd len="med" type="triangle" w="med"/>
          </a:ln>
        </p:spPr>
      </p:cxnSp>
      <p:sp>
        <p:nvSpPr>
          <p:cNvPr id="859" name=""/>
          <p:cNvSpPr/>
          <p:nvPr/>
        </p:nvSpPr>
        <p:spPr>
          <a:xfrm>
            <a:off x="2507400" y="107964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linear D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173560" y="4664160"/>
                <a:ext cx="41068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665360" y="4726080"/>
                <a:ext cx="28782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982800" y="4168800"/>
            <a:ext cx="44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Bilinear stat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2" idx="1"/>
            <a:endCxn id="864" idx="3"/>
          </p:cNvCxnSpPr>
          <p:nvPr/>
        </p:nvCxnSpPr>
        <p:spPr>
          <a:xfrm flipH="1" flipV="1">
            <a:off x="1899720" y="2451960"/>
            <a:ext cx="57240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64" name=""/>
          <p:cNvSpPr/>
          <p:nvPr/>
        </p:nvSpPr>
        <p:spPr>
          <a:xfrm>
            <a:off x="1522800" y="2298600"/>
            <a:ext cx="38016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786040" y="2936880"/>
            <a:ext cx="150840" cy="149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"/>
          <p:cNvCxnSpPr>
            <a:stCxn id="867" idx="2"/>
            <a:endCxn id="865" idx="0"/>
          </p:cNvCxnSpPr>
          <p:nvPr/>
        </p:nvCxnSpPr>
        <p:spPr>
          <a:xfrm>
            <a:off x="2406600" y="1917360"/>
            <a:ext cx="456480" cy="10198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2215800" y="1609560"/>
            <a:ext cx="38016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168960" y="106380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nlinear D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5838840" y="1596960"/>
            <a:ext cx="2527200" cy="25304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6568920" y="2022480"/>
            <a:ext cx="21780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102360" y="2676600"/>
            <a:ext cx="21744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59720" y="2903400"/>
            <a:ext cx="22068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566120" y="2322360"/>
            <a:ext cx="21744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stCxn id="871" idx="5"/>
            <a:endCxn id="872" idx="2"/>
          </p:cNvCxnSpPr>
          <p:nvPr/>
        </p:nvCxnSpPr>
        <p:spPr>
          <a:xfrm>
            <a:off x="6288120" y="2860200"/>
            <a:ext cx="472320" cy="15156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71" idx="0"/>
            <a:endCxn id="870" idx="3"/>
          </p:cNvCxnSpPr>
          <p:nvPr/>
        </p:nvCxnSpPr>
        <p:spPr>
          <a:xfrm flipV="1">
            <a:off x="6211440" y="2206080"/>
            <a:ext cx="389880" cy="47052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70" idx="5"/>
            <a:endCxn id="873" idx="2"/>
          </p:cNvCxnSpPr>
          <p:nvPr/>
        </p:nvCxnSpPr>
        <p:spPr>
          <a:xfrm>
            <a:off x="6754680" y="2206440"/>
            <a:ext cx="812160" cy="224280"/>
          </a:xfrm>
          <a:prstGeom prst="straightConnector1">
            <a:avLst/>
          </a:prstGeom>
          <a:ln w="28440">
            <a:solidFill>
              <a:srgbClr val="ffff66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73" idx="3"/>
            <a:endCxn id="872" idx="7"/>
          </p:cNvCxnSpPr>
          <p:nvPr/>
        </p:nvCxnSpPr>
        <p:spPr>
          <a:xfrm flipH="1">
            <a:off x="6948000" y="2506320"/>
            <a:ext cx="650160" cy="429480"/>
          </a:xfrm>
          <a:prstGeom prst="straightConnector1">
            <a:avLst/>
          </a:prstGeom>
          <a:ln w="28440">
            <a:solidFill>
              <a:srgbClr val="ffff66"/>
            </a:solidFill>
            <a:miter/>
            <a:headEnd len="med" type="triangle" w="med"/>
          </a:ln>
        </p:spPr>
      </p:cxnSp>
      <p:sp>
        <p:nvSpPr>
          <p:cNvPr id="878" name=""/>
          <p:cNvSpPr/>
          <p:nvPr/>
        </p:nvSpPr>
        <p:spPr>
          <a:xfrm>
            <a:off x="6453360" y="2940120"/>
            <a:ext cx="149040" cy="149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9" name=""/>
          <p:cNvCxnSpPr>
            <a:stCxn id="870" idx="4"/>
            <a:endCxn id="878" idx="0"/>
          </p:cNvCxnSpPr>
          <p:nvPr/>
        </p:nvCxnSpPr>
        <p:spPr>
          <a:xfrm flipH="1">
            <a:off x="6527160" y="2238120"/>
            <a:ext cx="151560" cy="702360"/>
          </a:xfrm>
          <a:prstGeom prst="straightConnector1">
            <a:avLst/>
          </a:prstGeom>
          <a:ln w="3816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5877000" y="4168800"/>
            <a:ext cx="30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Unicode MS"/>
              </a:rPr>
              <a:t>Nonlinear stat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744640" y="2374920"/>
            <a:ext cx="149400" cy="149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67" idx="2"/>
            <a:endCxn id="881" idx="1"/>
          </p:cNvCxnSpPr>
          <p:nvPr/>
        </p:nvCxnSpPr>
        <p:spPr>
          <a:xfrm>
            <a:off x="2406240" y="1917720"/>
            <a:ext cx="361080" cy="4802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83" name=""/>
          <p:cNvSpPr/>
          <p:nvPr/>
        </p:nvSpPr>
        <p:spPr>
          <a:xfrm>
            <a:off x="5866200" y="1622520"/>
            <a:ext cx="38016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396120" y="2387520"/>
            <a:ext cx="149040" cy="149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5" name=""/>
          <p:cNvCxnSpPr>
            <a:stCxn id="883" idx="2"/>
            <a:endCxn id="884" idx="1"/>
          </p:cNvCxnSpPr>
          <p:nvPr/>
        </p:nvCxnSpPr>
        <p:spPr>
          <a:xfrm>
            <a:off x="6056280" y="1930320"/>
            <a:ext cx="362520" cy="4802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886" name=""/>
          <p:cNvCxnSpPr>
            <a:stCxn id="871" idx="1"/>
            <a:endCxn id="887" idx="3"/>
          </p:cNvCxnSpPr>
          <p:nvPr/>
        </p:nvCxnSpPr>
        <p:spPr>
          <a:xfrm flipH="1" flipV="1">
            <a:off x="5556960" y="2461680"/>
            <a:ext cx="577080" cy="246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87" name=""/>
          <p:cNvSpPr/>
          <p:nvPr/>
        </p:nvSpPr>
        <p:spPr>
          <a:xfrm>
            <a:off x="5180400" y="2308320"/>
            <a:ext cx="38016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95120" y="5862600"/>
            <a:ext cx="988092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39640" indent="-539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DCM can model activity-dependent changes in connectivity; how connections are enabled or gated by activity in one or more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05480" y="179280"/>
            <a:ext cx="82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Extension III: Nonlinear DCM for fM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1005480" y="179280"/>
            <a:ext cx="82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Extension III: Nonlinear DCM for fM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262480" y="255996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894280" y="3474720"/>
            <a:ext cx="43023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terior density of            indicates that this gating existed with 97.4% conf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trix encodes which of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eural units gate which connections in the sys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33004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8972640" y="3583080"/>
                <a:ext cx="9619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PC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1117440" y="1136520"/>
            <a:ext cx="801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V5 activity during attention to motion be explained by allowing activity in SPC to modulate the V1-to-V5 conne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65280" y="4761000"/>
            <a:ext cx="719280" cy="718920"/>
          </a:xfrm>
          <a:prstGeom prst="ellipse">
            <a:avLst/>
          </a:prstGeom>
          <a:gradFill rotWithShape="0">
            <a:gsLst>
              <a:gs pos="0">
                <a:srgbClr val="acc1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586960" y="49370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00720" y="4762440"/>
            <a:ext cx="718920" cy="719280"/>
          </a:xfrm>
          <a:prstGeom prst="ellipse">
            <a:avLst/>
          </a:prstGeom>
          <a:gradFill rotWithShape="0">
            <a:gsLst>
              <a:gs pos="0">
                <a:srgbClr val="acc1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617360" y="4948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>
            <a:stCxn id="896" idx="5"/>
            <a:endCxn id="898" idx="3"/>
          </p:cNvCxnSpPr>
          <p:nvPr/>
        </p:nvCxnSpPr>
        <p:spPr>
          <a:xfrm>
            <a:off x="3079800" y="5374800"/>
            <a:ext cx="15264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608280" y="3321000"/>
            <a:ext cx="719280" cy="719280"/>
          </a:xfrm>
          <a:prstGeom prst="ellipse">
            <a:avLst/>
          </a:prstGeom>
          <a:gradFill rotWithShape="0">
            <a:gsLst>
              <a:gs pos="0">
                <a:srgbClr val="acc1fe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661560" y="34941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Unicode MS"/>
              </a:rPr>
              <a:t>S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3" name=""/>
          <p:cNvCxnSpPr>
            <a:stCxn id="898" idx="1"/>
            <a:endCxn id="896" idx="7"/>
          </p:cNvCxnSpPr>
          <p:nvPr/>
        </p:nvCxnSpPr>
        <p:spPr>
          <a:xfrm flipH="1" flipV="1">
            <a:off x="3079440" y="4865400"/>
            <a:ext cx="1526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04" name=""/>
          <p:cNvCxnSpPr>
            <a:stCxn id="896" idx="7"/>
            <a:endCxn id="901" idx="3"/>
          </p:cNvCxnSpPr>
          <p:nvPr/>
        </p:nvCxnSpPr>
        <p:spPr>
          <a:xfrm flipV="1">
            <a:off x="3079440" y="3935160"/>
            <a:ext cx="633960" cy="930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5" name=""/>
          <p:cNvSpPr/>
          <p:nvPr/>
        </p:nvSpPr>
        <p:spPr>
          <a:xfrm>
            <a:off x="4229280" y="4863960"/>
            <a:ext cx="149040" cy="149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6" name=""/>
          <p:cNvCxnSpPr>
            <a:stCxn id="901" idx="4"/>
            <a:endCxn id="905" idx="0"/>
          </p:cNvCxnSpPr>
          <p:nvPr/>
        </p:nvCxnSpPr>
        <p:spPr>
          <a:xfrm>
            <a:off x="3968280" y="4040280"/>
            <a:ext cx="335880" cy="8244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907" name=""/>
          <p:cNvSpPr/>
          <p:nvPr/>
        </p:nvSpPr>
        <p:spPr>
          <a:xfrm>
            <a:off x="126000" y="4849920"/>
            <a:ext cx="1531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st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896" idx="2"/>
            <a:endCxn id="907" idx="3"/>
          </p:cNvCxnSpPr>
          <p:nvPr/>
        </p:nvCxnSpPr>
        <p:spPr>
          <a:xfrm flipH="1">
            <a:off x="1591560" y="5121000"/>
            <a:ext cx="873720" cy="54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  <p:cxnSp>
        <p:nvCxnSpPr>
          <p:cNvPr id="909" name=""/>
          <p:cNvCxnSpPr>
            <a:stCxn id="901" idx="0"/>
            <a:endCxn id="910" idx="2"/>
          </p:cNvCxnSpPr>
          <p:nvPr/>
        </p:nvCxnSpPr>
        <p:spPr>
          <a:xfrm flipV="1">
            <a:off x="3968280" y="2692080"/>
            <a:ext cx="3960" cy="6292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</p:cxnSp>
      <p:sp>
        <p:nvSpPr>
          <p:cNvPr id="910" name=""/>
          <p:cNvSpPr/>
          <p:nvPr/>
        </p:nvSpPr>
        <p:spPr>
          <a:xfrm>
            <a:off x="3332160" y="2324160"/>
            <a:ext cx="1275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745360" y="4076640"/>
            <a:ext cx="659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0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622680" y="4719600"/>
            <a:ext cx="149400" cy="149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14" idx="0"/>
            <a:endCxn id="912" idx="4"/>
          </p:cNvCxnSpPr>
          <p:nvPr/>
        </p:nvCxnSpPr>
        <p:spPr>
          <a:xfrm flipV="1">
            <a:off x="3690720" y="4868280"/>
            <a:ext cx="6840" cy="127836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914" name=""/>
          <p:cNvSpPr/>
          <p:nvPr/>
        </p:nvSpPr>
        <p:spPr>
          <a:xfrm>
            <a:off x="3170160" y="6146640"/>
            <a:ext cx="1040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61080" y="5673600"/>
            <a:ext cx="659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0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645200" y="4730760"/>
            <a:ext cx="659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1.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324600" y="2813040"/>
            <a:ext cx="659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0.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96800" y="4076640"/>
            <a:ext cx="7005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(97.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209520" y="797040"/>
            <a:ext cx="6559560" cy="96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1120" y="7632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382760" y="1688040"/>
            <a:ext cx="76183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ynamic Causal Modelling (DCM) of fMRI is mechanistic model that is informed by anatomical and physiological princi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380960" y="5799600"/>
            <a:ext cx="761868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CM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model or modality specific (Models will change and the method extended to other modalities e.g. ER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84200" y="2927880"/>
            <a:ext cx="761868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CM uses a deterministic differential equation to model neuro-dynamics (represented by matrices A,B and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86000" y="3953160"/>
            <a:ext cx="7618320" cy="398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CM uses a Bayesian framework to estimate mode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82760" y="4705920"/>
            <a:ext cx="76183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CM provides an observation model for neuroimaging data, e.g. fMRI, M/E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1120" y="76320"/>
            <a:ext cx="8259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Principles of organ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9520" y="914400"/>
            <a:ext cx="6559560" cy="96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24" t="6138" r="3276" b="24302"/>
          <a:stretch/>
        </p:blipFill>
        <p:spPr>
          <a:xfrm>
            <a:off x="4886280" y="2271600"/>
            <a:ext cx="5091120" cy="2452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27040" y="1565640"/>
            <a:ext cx="341640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al spe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02400" y="1565640"/>
            <a:ext cx="333216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9c978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al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4440" y="2246400"/>
            <a:ext cx="3428640" cy="2858760"/>
            <a:chOff x="514440" y="2246400"/>
            <a:chExt cx="3428640" cy="2858760"/>
          </a:xfrm>
        </p:grpSpPr>
        <p:graphicFrame>
          <p:nvGraphicFramePr>
            <p:cNvPr id="67" name=""/>
            <p:cNvGraphicFramePr/>
            <p:nvPr/>
          </p:nvGraphicFramePr>
          <p:xfrm>
            <a:off x="514440" y="2246400"/>
            <a:ext cx="3428640" cy="2858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4440" y="2246400"/>
                      <a:ext cx="3428640" cy="285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599040" y="3141360"/>
              <a:ext cx="724320" cy="86040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79215"/>
                  </a:srgbClr>
                </a:gs>
                <a:gs pos="100000">
                  <a:srgbClr val="2db4b4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010000">
              <a:off x="1854360" y="2356920"/>
              <a:ext cx="431280" cy="1178280"/>
            </a:xfrm>
            <a:prstGeom prst="ellipse">
              <a:avLst/>
            </a:prstGeom>
            <a:solidFill>
              <a:srgbClr val="cc99ff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942920" y="2593440"/>
              <a:ext cx="408600" cy="694080"/>
              <a:chOff x="1942920" y="2593440"/>
              <a:chExt cx="408600" cy="694080"/>
            </a:xfrm>
          </p:grpSpPr>
          <p:sp>
            <p:nvSpPr>
              <p:cNvPr id="72" name=""/>
              <p:cNvSpPr/>
              <p:nvPr/>
            </p:nvSpPr>
            <p:spPr>
              <a:xfrm>
                <a:off x="1981440" y="2618280"/>
                <a:ext cx="113760" cy="8496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62440" y="2713320"/>
                <a:ext cx="694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32280" y="2928600"/>
                <a:ext cx="5688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132280" y="292860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80520" y="3230640"/>
                <a:ext cx="171000" cy="4212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61280" y="3245040"/>
                <a:ext cx="171000" cy="424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62440" y="2729520"/>
                <a:ext cx="200160" cy="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220840" y="2827800"/>
                <a:ext cx="36720" cy="1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90800" y="2593440"/>
                <a:ext cx="110160" cy="5688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63" y="42"/>
                    </a:moveTo>
                    <a:cubicBezTo>
                      <a:pt x="67" y="41"/>
                      <a:pt x="75" y="42"/>
                      <a:pt x="75" y="38"/>
                    </a:cubicBezTo>
                    <a:cubicBezTo>
                      <a:pt x="75" y="33"/>
                      <a:pt x="68" y="29"/>
                      <a:pt x="63" y="30"/>
                    </a:cubicBezTo>
                    <a:cubicBezTo>
                      <a:pt x="58" y="31"/>
                      <a:pt x="58" y="38"/>
                      <a:pt x="55" y="42"/>
                    </a:cubicBezTo>
                    <a:cubicBezTo>
                      <a:pt x="75" y="49"/>
                      <a:pt x="72" y="37"/>
                      <a:pt x="67" y="22"/>
                    </a:cubicBezTo>
                    <a:cubicBezTo>
                      <a:pt x="63" y="23"/>
                      <a:pt x="57" y="22"/>
                      <a:pt x="55" y="26"/>
                    </a:cubicBezTo>
                    <a:cubicBezTo>
                      <a:pt x="50" y="36"/>
                      <a:pt x="74" y="48"/>
                      <a:pt x="47" y="30"/>
                    </a:cubicBezTo>
                    <a:cubicBezTo>
                      <a:pt x="50" y="22"/>
                      <a:pt x="58" y="0"/>
                      <a:pt x="47" y="6"/>
                    </a:cubicBezTo>
                    <a:cubicBezTo>
                      <a:pt x="42" y="8"/>
                      <a:pt x="46" y="18"/>
                      <a:pt x="43" y="22"/>
                    </a:cubicBezTo>
                    <a:cubicBezTo>
                      <a:pt x="40" y="25"/>
                      <a:pt x="35" y="25"/>
                      <a:pt x="31" y="26"/>
                    </a:cubicBezTo>
                    <a:cubicBezTo>
                      <a:pt x="14" y="20"/>
                      <a:pt x="23" y="20"/>
                      <a:pt x="7" y="30"/>
                    </a:cubicBezTo>
                    <a:cubicBezTo>
                      <a:pt x="2" y="46"/>
                      <a:pt x="0" y="45"/>
                      <a:pt x="11" y="34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75680" y="2609640"/>
                <a:ext cx="101160" cy="3348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33" y="4"/>
                    </a:moveTo>
                    <a:cubicBezTo>
                      <a:pt x="37" y="5"/>
                      <a:pt x="49" y="6"/>
                      <a:pt x="45" y="8"/>
                    </a:cubicBezTo>
                    <a:cubicBezTo>
                      <a:pt x="31" y="17"/>
                      <a:pt x="6" y="7"/>
                      <a:pt x="33" y="16"/>
                    </a:cubicBezTo>
                    <a:cubicBezTo>
                      <a:pt x="39" y="12"/>
                      <a:pt x="69" y="3"/>
                      <a:pt x="69" y="20"/>
                    </a:cubicBezTo>
                    <a:cubicBezTo>
                      <a:pt x="69" y="24"/>
                      <a:pt x="61" y="18"/>
                      <a:pt x="57" y="16"/>
                    </a:cubicBezTo>
                    <a:cubicBezTo>
                      <a:pt x="49" y="11"/>
                      <a:pt x="33" y="0"/>
                      <a:pt x="33" y="0"/>
                    </a:cubicBezTo>
                    <a:cubicBezTo>
                      <a:pt x="21" y="4"/>
                      <a:pt x="0" y="29"/>
                      <a:pt x="33" y="4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1942920" y="2741400"/>
                <a:ext cx="123120" cy="16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1942920" y="2881440"/>
                <a:ext cx="163440" cy="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704520" y="3297600"/>
              <a:ext cx="44208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704520" y="3610800"/>
              <a:ext cx="44208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58040" y="3376080"/>
              <a:ext cx="88560" cy="39096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0"/>
                  </a:moveTo>
                  <a:cubicBezTo>
                    <a:pt x="16" y="12"/>
                    <a:pt x="32" y="24"/>
                    <a:pt x="48" y="48"/>
                  </a:cubicBezTo>
                  <a:cubicBezTo>
                    <a:pt x="64" y="72"/>
                    <a:pt x="96" y="112"/>
                    <a:pt x="96" y="144"/>
                  </a:cubicBezTo>
                  <a:cubicBezTo>
                    <a:pt x="96" y="176"/>
                    <a:pt x="64" y="216"/>
                    <a:pt x="48" y="240"/>
                  </a:cubicBezTo>
                  <a:cubicBezTo>
                    <a:pt x="32" y="264"/>
                    <a:pt x="0" y="288"/>
                    <a:pt x="0" y="288"/>
                  </a:cubicBezTo>
                  <a:cubicBezTo>
                    <a:pt x="0" y="288"/>
                    <a:pt x="24" y="264"/>
                    <a:pt x="4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58040" y="3453840"/>
              <a:ext cx="88560" cy="23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85960" y="228600"/>
            <a:ext cx="781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Conceptual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16280" y="1838160"/>
            <a:ext cx="6311520" cy="4099680"/>
            <a:chOff x="1916280" y="1838160"/>
            <a:chExt cx="6311520" cy="4099680"/>
          </a:xfrm>
        </p:grpSpPr>
        <p:sp>
          <p:nvSpPr>
            <p:cNvPr id="90" name=""/>
            <p:cNvSpPr/>
            <p:nvPr/>
          </p:nvSpPr>
          <p:spPr>
            <a:xfrm>
              <a:off x="5027400" y="439236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56360" y="474624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75560" y="547812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37c03"/>
                  </a:solidFill>
                  <a:latin typeface="Arial"/>
                </a:rPr>
                <a:t>BO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32440" y="5167080"/>
              <a:ext cx="447120" cy="459720"/>
            </a:xfrm>
            <a:prstGeom prst="rect">
              <a:avLst/>
            </a:prstGeom>
            <a:gradFill rotWithShape="0">
              <a:gsLst>
                <a:gs pos="0">
                  <a:srgbClr val="037c03"/>
                </a:gs>
                <a:gs pos="100000">
                  <a:srgbClr val="01390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27400" y="489708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97360" y="4878000"/>
              <a:ext cx="447120" cy="459720"/>
            </a:xfrm>
            <a:prstGeom prst="rect">
              <a:avLst/>
            </a:prstGeom>
            <a:gradFill rotWithShape="0">
              <a:gsLst>
                <a:gs pos="0">
                  <a:srgbClr val="037c03"/>
                </a:gs>
                <a:gs pos="100000">
                  <a:srgbClr val="01390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16280" y="3580920"/>
              <a:ext cx="6264000" cy="1676520"/>
            </a:xfrm>
            <a:prstGeom prst="parallelogram">
              <a:avLst>
                <a:gd name="adj" fmla="val 93408"/>
              </a:avLst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97000" y="5406840"/>
              <a:ext cx="447480" cy="459720"/>
            </a:xfrm>
            <a:prstGeom prst="rect">
              <a:avLst/>
            </a:prstGeom>
            <a:gradFill rotWithShape="0">
              <a:gsLst>
                <a:gs pos="0">
                  <a:srgbClr val="037c03"/>
                </a:gs>
                <a:gs pos="100000">
                  <a:srgbClr val="01390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66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396960" y="4125600"/>
              <a:ext cx="129492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76160" y="1838160"/>
              <a:ext cx="858960" cy="825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97560" y="3870000"/>
              <a:ext cx="803880" cy="61416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378040" y="4048920"/>
              <a:ext cx="45684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44880" y="2677680"/>
              <a:ext cx="838080" cy="1524240"/>
            </a:xfrm>
            <a:custGeom>
              <a:avLst/>
              <a:gdLst/>
              <a:ahLst/>
              <a:rect l="l" t="t" r="r" b="b"/>
              <a:pathLst>
                <a:path w="1208" h="1008">
                  <a:moveTo>
                    <a:pt x="0" y="0"/>
                  </a:moveTo>
                  <a:cubicBezTo>
                    <a:pt x="404" y="60"/>
                    <a:pt x="808" y="120"/>
                    <a:pt x="1008" y="288"/>
                  </a:cubicBezTo>
                  <a:cubicBezTo>
                    <a:pt x="1208" y="456"/>
                    <a:pt x="1204" y="732"/>
                    <a:pt x="1200" y="100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68760" y="4403520"/>
              <a:ext cx="803880" cy="61416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0560" y="4174920"/>
              <a:ext cx="803880" cy="61416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43960" y="2677680"/>
              <a:ext cx="1523880" cy="1676520"/>
            </a:xfrm>
            <a:custGeom>
              <a:avLst/>
              <a:gdLst/>
              <a:ahLst/>
              <a:rect l="l" t="t" r="r" b="b"/>
              <a:pathLst>
                <a:path w="1208" h="1008">
                  <a:moveTo>
                    <a:pt x="0" y="0"/>
                  </a:moveTo>
                  <a:cubicBezTo>
                    <a:pt x="404" y="60"/>
                    <a:pt x="808" y="120"/>
                    <a:pt x="1008" y="288"/>
                  </a:cubicBezTo>
                  <a:cubicBezTo>
                    <a:pt x="1208" y="456"/>
                    <a:pt x="1204" y="732"/>
                    <a:pt x="1200" y="100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54320" y="2804760"/>
              <a:ext cx="391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37160" y="2804760"/>
              <a:ext cx="4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24000" y="3812760"/>
              <a:ext cx="4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60800" y="3487320"/>
              <a:ext cx="146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eur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t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625920" y="4430160"/>
              <a:ext cx="213300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3040" y="76320"/>
            <a:ext cx="987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 differential equations to represent a neuronal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60280" y="1357200"/>
            <a:ext cx="9808560" cy="2046240"/>
            <a:chOff x="260280" y="1357200"/>
            <a:chExt cx="9808560" cy="2046240"/>
          </a:xfrm>
        </p:grpSpPr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251400" y="1646280"/>
                  <a:ext cx="2102040" cy="17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8268120" y="2209680"/>
              <a:ext cx="180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ystem represented </a:t>
              </a:r>
              <a:br>
                <a:rPr sz="1400"/>
              </a:b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by state varia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0280" y="1357200"/>
              <a:ext cx="565308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State vector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Changes with 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54160" y="2849400"/>
            <a:ext cx="9448560" cy="2401920"/>
            <a:chOff x="254160" y="2849400"/>
            <a:chExt cx="9448560" cy="2401920"/>
          </a:xfrm>
        </p:grpSpPr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6259680" y="3645000"/>
                  <a:ext cx="3443040" cy="16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⋮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"/>
            <p:cNvSpPr/>
            <p:nvPr/>
          </p:nvSpPr>
          <p:spPr>
            <a:xfrm>
              <a:off x="254160" y="2849400"/>
              <a:ext cx="565308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Rate of change of state vec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nteractions between elem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External inputs,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60280" y="5046840"/>
            <a:ext cx="8487000" cy="1503360"/>
            <a:chOff x="260280" y="5046840"/>
            <a:chExt cx="8487000" cy="1503360"/>
          </a:xfrm>
        </p:grpSpPr>
        <p:graphicFrame>
          <p:nvGraphicFramePr>
            <p:cNvPr id="120" name=""/>
            <p:cNvGraphicFramePr/>
            <p:nvPr/>
          </p:nvGraphicFramePr>
          <p:xfrm>
            <a:off x="6703920" y="5678640"/>
            <a:ext cx="2043360" cy="49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03920" y="5678640"/>
                      <a:ext cx="2043360" cy="49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260280" y="5046840"/>
              <a:ext cx="5653080" cy="15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System parameters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5120" y="201600"/>
            <a:ext cx="93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Unicode MS"/>
              </a:rPr>
              <a:t>DCM parameters = rate const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27200" y="1639800"/>
          <a:ext cx="166356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639800"/>
                    <a:ext cx="16635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25760" y="279864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ecay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5880" y="3911760"/>
            <a:ext cx="16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Half-life</a:t>
            </a:r>
            <a:r>
              <a:rPr b="1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320" y="1222200"/>
            <a:ext cx="50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Generic solution to the ODEs in DC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63800" y="5600880"/>
          <a:ext cx="182232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3800" y="5600880"/>
                    <a:ext cx="18223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825480" y="5684760"/>
            <a:ext cx="992160" cy="374760"/>
          </a:xfrm>
          <a:prstGeom prst="rightArrow">
            <a:avLst>
              <a:gd name="adj1" fmla="val 50000"/>
              <a:gd name="adj2" fmla="val 66186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40160" y="1924200"/>
            <a:ext cx="992160" cy="374400"/>
          </a:xfrm>
          <a:prstGeom prst="rightArrow">
            <a:avLst>
              <a:gd name="adj1" fmla="val 50000"/>
              <a:gd name="adj2" fmla="val 6625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7720" y="5508720"/>
            <a:ext cx="1938240" cy="6937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140360" y="2390760"/>
            <a:ext cx="5481360" cy="3921120"/>
            <a:chOff x="4140360" y="2390760"/>
            <a:chExt cx="5481360" cy="3921120"/>
          </a:xfrm>
        </p:grpSpPr>
        <p:sp>
          <p:nvSpPr>
            <p:cNvPr id="135" name=""/>
            <p:cNvSpPr/>
            <p:nvPr/>
          </p:nvSpPr>
          <p:spPr>
            <a:xfrm>
              <a:off x="5232240" y="4373640"/>
              <a:ext cx="46368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68920" y="4357800"/>
              <a:ext cx="0" cy="137772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4456080" y="2390760"/>
              <a:ext cx="5165640" cy="3905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8" name=""/>
            <p:cNvGraphicFramePr/>
            <p:nvPr/>
          </p:nvGraphicFramePr>
          <p:xfrm>
            <a:off x="4140360" y="4183200"/>
            <a:ext cx="1033200" cy="442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40360" y="4183200"/>
                      <a:ext cx="103320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5969160" y="5979960"/>
                  <a:ext cx="30132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 flipV="1">
              <a:off x="5118120" y="4398480"/>
              <a:ext cx="996840" cy="9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106680" y="4406760"/>
              <a:ext cx="4680" cy="1449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750960" y="3173400"/>
          <a:ext cx="3639960" cy="63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50960" y="3173400"/>
                    <a:ext cx="36399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73280" y="4292640"/>
          <a:ext cx="3477960" cy="1170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3280" y="4292640"/>
                    <a:ext cx="34779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695760" y="1793880"/>
          <a:ext cx="5710320" cy="63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95760" y="1793880"/>
                    <a:ext cx="57103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603520" y="404640"/>
            <a:ext cx="7683480" cy="57582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53680" y="-152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ear dynamics: 2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14480" y="3533760"/>
          <a:ext cx="1722240" cy="298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4480" y="3533760"/>
                    <a:ext cx="17222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381800" y="1311120"/>
                <a:ext cx="1684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315200" y="2970360"/>
                <a:ext cx="17352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377120" y="4589640"/>
                <a:ext cx="16606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96880" y="113184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96880" y="244008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2360" y="2460600"/>
            <a:ext cx="35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3"/>
            <a:endCxn id="161" idx="1"/>
          </p:cNvCxnSpPr>
          <p:nvPr/>
        </p:nvCxnSpPr>
        <p:spPr>
          <a:xfrm flipV="1" rot="10800000">
            <a:off x="1573920" y="1587240"/>
            <a:ext cx="1080" cy="930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27080" y="1927080"/>
                <a:ext cx="449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65" name=""/>
          <p:cNvCxnSpPr>
            <a:stCxn id="161" idx="3"/>
            <a:endCxn id="161" idx="5"/>
          </p:cNvCxnSpPr>
          <p:nvPr/>
        </p:nvCxnSpPr>
        <p:spPr>
          <a:xfrm flipH="1" rot="16200000">
            <a:off x="1762560" y="2706840"/>
            <a:ext cx="2520" cy="378720"/>
          </a:xfrm>
          <a:prstGeom prst="curvedConnector5">
            <a:avLst>
              <a:gd name="adj1" fmla="val 19300000"/>
              <a:gd name="adj2" fmla="val 49952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1"/>
            <a:endCxn id="160" idx="7"/>
          </p:cNvCxnSpPr>
          <p:nvPr/>
        </p:nvCxnSpPr>
        <p:spPr>
          <a:xfrm flipH="1" rot="16200000">
            <a:off x="1762560" y="1020240"/>
            <a:ext cx="252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1589760" y="1139760"/>
            <a:ext cx="35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17720" y="3036960"/>
                <a:ext cx="236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003400" y="932040"/>
                <a:ext cx="23652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0" name=""/>
          <p:cNvGrpSpPr/>
          <p:nvPr/>
        </p:nvGrpSpPr>
        <p:grpSpPr>
          <a:xfrm>
            <a:off x="4497480" y="6083280"/>
            <a:ext cx="4201560" cy="622440"/>
            <a:chOff x="4497480" y="6083280"/>
            <a:chExt cx="4201560" cy="622440"/>
          </a:xfrm>
        </p:grpSpPr>
        <p:sp>
          <p:nvSpPr>
            <p:cNvPr id="171" name=""/>
            <p:cNvSpPr/>
            <p:nvPr/>
          </p:nvSpPr>
          <p:spPr>
            <a:xfrm>
              <a:off x="4684680" y="6302520"/>
              <a:ext cx="594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8800" y="6310440"/>
              <a:ext cx="595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59640" y="6303960"/>
              <a:ext cx="594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2920" y="6124680"/>
              <a:ext cx="7045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7480" y="6083280"/>
              <a:ext cx="4194000" cy="50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80080" y="6122880"/>
              <a:ext cx="70452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sa</a:t>
              </a:r>
              <a:r>
                <a:rPr b="0" i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94520" y="6107040"/>
              <a:ext cx="7045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GB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53680" y="-152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dynamics: 2 nodes with in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44880" y="1293840"/>
            <a:ext cx="5235840" cy="3778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02560" y="2301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02560" y="15098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77080" y="317016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77080" y="40338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22480" y="6356520"/>
            <a:ext cx="670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ivity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oupl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via coefficien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94280" y="2301840"/>
            <a:ext cx="478476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96880" y="307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96880" y="438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67800" y="230364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2" idx="3"/>
            <a:endCxn id="193" idx="1"/>
          </p:cNvCxnSpPr>
          <p:nvPr/>
        </p:nvCxnSpPr>
        <p:spPr>
          <a:xfrm flipV="1" rot="10800000">
            <a:off x="1573920" y="3530160"/>
            <a:ext cx="1080" cy="930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4" idx="2"/>
            <a:endCxn id="192" idx="0"/>
          </p:cNvCxnSpPr>
          <p:nvPr/>
        </p:nvCxnSpPr>
        <p:spPr>
          <a:xfrm>
            <a:off x="1754280" y="2639520"/>
            <a:ext cx="10080" cy="4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027080" y="3870360"/>
                <a:ext cx="449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79760" y="5481720"/>
                <a:ext cx="52354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m>
                      <m:mr>
                        <m:e/>
                        <m:e/>
                      </m:mr>
                    </m:m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</m:mr>
                    </m:m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597120" y="5981760"/>
            <a:ext cx="447840" cy="439560"/>
          </a:xfrm>
          <a:prstGeom prst="ellipse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18200" y="3098880"/>
            <a:ext cx="35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84360" y="440676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53680" y="-152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dynamics: positive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844880" y="1589040"/>
            <a:ext cx="5235840" cy="3778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11360" y="5481720"/>
                <a:ext cx="71722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s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m>
                      <m:mr>
                        <m:e/>
                        <m:e/>
                      </m:mr>
                    </m:m>
                    <m:m>
                      <m:mr>
                        <m:e/>
                        <m:e>
                          <m:sSubSup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mr>
                    </m:m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5002560" y="28814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02560" y="21366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77080" y="37972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7080" y="461340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5981760"/>
            <a:ext cx="447840" cy="439560"/>
          </a:xfrm>
          <a:prstGeom prst="ellipse">
            <a:avLst/>
          </a:pr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8120" y="6362640"/>
            <a:ext cx="734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ulatory input u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ctivity through the coupling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3195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96880" y="3075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6880" y="438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67800" y="230364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400" y="2946240"/>
            <a:ext cx="372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13" idx="3"/>
            <a:endCxn id="214" idx="1"/>
          </p:cNvCxnSpPr>
          <p:nvPr/>
        </p:nvCxnSpPr>
        <p:spPr>
          <a:xfrm flipV="1" rot="10800000">
            <a:off x="1573920" y="3530160"/>
            <a:ext cx="1080" cy="930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5" idx="2"/>
            <a:endCxn id="213" idx="0"/>
          </p:cNvCxnSpPr>
          <p:nvPr/>
        </p:nvCxnSpPr>
        <p:spPr>
          <a:xfrm>
            <a:off x="1754280" y="2639520"/>
            <a:ext cx="10080" cy="4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97040" y="3332160"/>
            <a:ext cx="777600" cy="65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86680" y="5676840"/>
            <a:ext cx="247680" cy="2746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69520" y="5153040"/>
            <a:ext cx="205992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dex, not squ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0" idx="7"/>
            <a:endCxn id="221" idx="2"/>
          </p:cNvCxnSpPr>
          <p:nvPr/>
        </p:nvCxnSpPr>
        <p:spPr>
          <a:xfrm flipV="1">
            <a:off x="8297640" y="5559120"/>
            <a:ext cx="501840" cy="1576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618200" y="3098880"/>
            <a:ext cx="35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84360" y="4406760"/>
            <a:ext cx="36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20:05:13Z</dcterms:created>
  <dc:creator>Klaas Enno Stephan</dc:creator>
  <dc:description/>
  <dc:language>en-US</dc:language>
  <cp:lastModifiedBy>amarreir</cp:lastModifiedBy>
  <cp:lastPrinted>2000-08-31T18:39:38Z</cp:lastPrinted>
  <dcterms:modified xsi:type="dcterms:W3CDTF">2008-05-16T12:12:09Z</dcterms:modified>
  <cp:revision>1493</cp:revision>
  <dc:subject/>
  <dc:title>DCM</dc:title>
</cp:coreProperties>
</file>