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1.wmf" ContentType="image/x-wmf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4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45.png" ContentType="image/png"/>
  <Override PartName="/ppt/media/image46.png" ContentType="image/png"/>
  <Override PartName="/ppt/media/image49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57.jpeg" ContentType="image/jpe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5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1.png" ContentType="image/png"/>
  <Override PartName="/ppt/media/image10.png" ContentType="image/png"/>
  <Override PartName="/ppt/media/image47.png" ContentType="image/png"/>
  <Override PartName="/ppt/media/image13.png" ContentType="image/png"/>
  <Override PartName="/ppt/media/image51.png" ContentType="image/png"/>
  <Override PartName="/ppt/media/image12.wmf" ContentType="image/x-wmf"/>
  <Override PartName="/ppt/media/image33.jpeg" ContentType="image/jpeg"/>
  <Override PartName="/ppt/media/image27.png" ContentType="image/png"/>
  <Override PartName="/ppt/media/image38.png" ContentType="image/png"/>
  <Override PartName="/ppt/media/image8.png" ContentType="image/png"/>
  <Override PartName="/ppt/media/image37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CC04-241B-4A94-9ADE-FE5F20C07EC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359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FEB44-8CC1-4CEC-ABBC-DA67AA5CF16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C235C-111B-4FA0-980D-5EA6667DCA7C}" type="slidenum">
              <a:rPr b="0" lang="fr-F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80F76-8FB2-4EAE-8340-90F8697BC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4DDAA-ACB6-4366-BC50-EF03945235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EC58A-1416-4C22-B2B1-BC3D1668BD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040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068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976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040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068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BE9AC4-A7AB-429B-A023-1375AE9A64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288720" y="907560"/>
            <a:ext cx="848988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29C3-633E-45EF-9DC5-2FC740BDB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0040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068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976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0040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068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660-7445-4DAE-81BC-F3431AC92E0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DC28-3111-4885-88F2-D39F748E459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5AB-7F7F-4D05-B1B7-DE834057AB8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1AC-7042-4E3C-B2F0-A22388CA35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7E89-02D9-4B08-A046-9DC380EC1E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8EC83-EEF7-49E2-9F97-5E2B44232E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288720" y="907560"/>
            <a:ext cx="848988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3EE0-D473-408A-9E7B-870CE0A4E5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412E-70F0-4BCF-9257-81E12F25EE6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C06B-E479-4E88-9E49-9CC03D4E7A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190-C015-44E4-B56C-DCCEDBB7CDF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F8C3-F348-4D4A-B033-30A249CD094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C57C-42E6-4D13-8FDE-5502A4A956F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0040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7068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2976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0040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7068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4392-981A-4710-9D5C-EB208D64885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3B374-1F85-428A-BF85-D8BEBA30017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88720" y="907560"/>
            <a:ext cx="848988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0040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7068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32976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0040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7068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8F41-B978-4AD8-9083-A7AE989317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88720" y="907560"/>
            <a:ext cx="848988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14FE7-CEE9-432B-9830-BE61A10F3E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9614D-79FC-4A4A-A053-30D5E6A683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4C1F7-97BB-4A84-9DD0-DD651D205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69672-7BD6-40E6-A90C-FB74BFBD8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17628" t="58960" r="2344" b="0"/>
          <a:stretch/>
        </p:blipFill>
        <p:spPr>
          <a:xfrm>
            <a:off x="-1440" y="0"/>
            <a:ext cx="9145440" cy="5349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35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812000" y="6337080"/>
            <a:ext cx="100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CAAF5-EAD1-40E3-8F99-E76ACE06891C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41959" t="30829" r="2132" b="0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35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24000" y="6244920"/>
            <a:ext cx="849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rcRect l="17628" t="58968" r="2346" b="0"/>
          <a:stretch/>
        </p:blipFill>
        <p:spPr>
          <a:xfrm>
            <a:off x="-1440" y="0"/>
            <a:ext cx="9145440" cy="5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8872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35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7812000" y="6337080"/>
            <a:ext cx="100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A769-C794-4531-8BC0-DC067526D1C7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rcRect l="41956" t="30809" r="2130" b="0"/>
          <a:stretch/>
        </p:blipFill>
        <p:spPr>
          <a:xfrm>
            <a:off x="0" y="0"/>
            <a:ext cx="9144000" cy="12906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359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ftr" idx="4"/>
          </p:nvPr>
        </p:nvSpPr>
        <p:spPr>
          <a:xfrm>
            <a:off x="324000" y="6244920"/>
            <a:ext cx="849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7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4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8.png"/><Relationship Id="rId3" Type="http://schemas.openxmlformats.org/officeDocument/2006/relationships/image" Target="../media/image26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68000" y="1915920"/>
            <a:ext cx="453708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4359"/>
                </a:solidFill>
                <a:latin typeface="Arial"/>
              </a:rPr>
              <a:t>The principles of DCM</a:t>
            </a:r>
            <a:endParaRPr b="1" lang="en-US" sz="5000" spc="-1" strike="noStrike">
              <a:solidFill>
                <a:srgbClr val="00435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563640" y="4005000"/>
            <a:ext cx="21589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ladimir Litv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332080" y="5235480"/>
            <a:ext cx="433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llcome Trust Centre for Neuroimag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449748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1" name="Object 20"/>
          <p:cNvGraphicFramePr/>
          <p:nvPr/>
        </p:nvGraphicFramePr>
        <p:xfrm>
          <a:off x="1763640" y="907920"/>
          <a:ext cx="590400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2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07920"/>
                    <a:ext cx="590400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Text Box 3"/>
          <p:cNvSpPr/>
          <p:nvPr/>
        </p:nvSpPr>
        <p:spPr>
          <a:xfrm>
            <a:off x="-32400" y="-27000"/>
            <a:ext cx="44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w lets take a step 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3485880" y="5493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780000" y="1125360"/>
            <a:ext cx="1728720" cy="71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3"/>
          <a:srcRect l="0" t="0" r="3062" b="0"/>
          <a:stretch/>
        </p:blipFill>
        <p:spPr>
          <a:xfrm>
            <a:off x="1187280" y="2036880"/>
            <a:ext cx="6837480" cy="48211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2852640" y="3284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2843280" y="3645000"/>
                <a:ext cx="32364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3492360" y="3213000"/>
                <a:ext cx="360072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y</m:t>
                    </m:r>
                    <m:r>
                      <m:t xml:space="preserve">|</m:t>
                    </m:r>
                    <m:r>
                      <m:t xml:space="preserve">ϑ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  <m:supHide m:val="1"/>
                      </m:naryPr>
                      <m:sub>
                        <m:r>
                          <m:t xml:space="preserve">k</m:t>
                        </m:r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πσ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bSup>
                              <m:e>
                                <m:r>
                                  <m:t xml:space="preserve">ε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3276720" y="2637000"/>
            <a:ext cx="39798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iven a prediction of the model, probability of the data given the model can be compu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his requires some assumptions about the distribution of the error (e.g. IID, normal distribution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arameters of error distribution (e.g. variance) also need to be estima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3" dur="2000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6" dur="2000"/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19" dur="2000"/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1" name="Object 20"/>
          <p:cNvGraphicFramePr/>
          <p:nvPr/>
        </p:nvGraphicFramePr>
        <p:xfrm>
          <a:off x="1763640" y="907920"/>
          <a:ext cx="590400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07920"/>
                    <a:ext cx="590400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"/>
          <p:cNvSpPr/>
          <p:nvPr/>
        </p:nvSpPr>
        <p:spPr>
          <a:xfrm>
            <a:off x="3485880" y="54936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hat does this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81800" y="184464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odness of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780000" y="1125360"/>
            <a:ext cx="1728720" cy="71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80000" y="1125360"/>
            <a:ext cx="1297080" cy="719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050920" y="2630520"/>
            <a:ext cx="5472360" cy="4038480"/>
            <a:chOff x="2050920" y="2630520"/>
            <a:chExt cx="5472360" cy="4038480"/>
          </a:xfrm>
        </p:grpSpPr>
        <p:pic>
          <p:nvPicPr>
            <p:cNvPr id="458" name="" descr=""/>
            <p:cNvPicPr/>
            <p:nvPr/>
          </p:nvPicPr>
          <p:blipFill>
            <a:blip r:embed="rId3"/>
            <a:srcRect l="0" t="0" r="1204" b="0"/>
            <a:stretch/>
          </p:blipFill>
          <p:spPr>
            <a:xfrm>
              <a:off x="2050920" y="2744640"/>
              <a:ext cx="5472360" cy="392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3787920" y="2630520"/>
              <a:ext cx="2283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ior distribution of t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5447160" y="18446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0.14966 4.81481E-006 E">
                                      <p:cBhvr>
                                        <p:cTn id="133" dur="2000" fill="hold"/>
                                        <p:tgtEl>
                                          <p:spTgt spid="4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1" name="Object 20"/>
          <p:cNvGraphicFramePr/>
          <p:nvPr/>
        </p:nvGraphicFramePr>
        <p:xfrm>
          <a:off x="1763640" y="907920"/>
          <a:ext cx="590400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2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07920"/>
                    <a:ext cx="590400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"/>
          <p:cNvSpPr/>
          <p:nvPr/>
        </p:nvSpPr>
        <p:spPr>
          <a:xfrm>
            <a:off x="-33480" y="-27000"/>
            <a:ext cx="395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does this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781800" y="1844640"/>
            <a:ext cx="171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oodness of f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439240" y="1844640"/>
            <a:ext cx="17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rior prob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6" name=""/>
          <p:cNvGrpSpPr/>
          <p:nvPr/>
        </p:nvGrpSpPr>
        <p:grpSpPr>
          <a:xfrm>
            <a:off x="3923640" y="3137040"/>
            <a:ext cx="1361880" cy="1517760"/>
            <a:chOff x="3923640" y="3137040"/>
            <a:chExt cx="1361880" cy="1517760"/>
          </a:xfrm>
        </p:grpSpPr>
        <p:sp>
          <p:nvSpPr>
            <p:cNvPr id="467" name=""/>
            <p:cNvSpPr/>
            <p:nvPr/>
          </p:nvSpPr>
          <p:spPr>
            <a:xfrm>
              <a:off x="4379760" y="3137040"/>
              <a:ext cx="447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923640" y="4073400"/>
              <a:ext cx="1361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F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3780000" y="2276640"/>
            <a:ext cx="1584000" cy="506160"/>
            <a:chOff x="3780000" y="2276640"/>
            <a:chExt cx="1584000" cy="506160"/>
          </a:xfrm>
        </p:grpSpPr>
        <p:sp>
          <p:nvSpPr>
            <p:cNvPr id="470" name=""/>
            <p:cNvSpPr/>
            <p:nvPr/>
          </p:nvSpPr>
          <p:spPr>
            <a:xfrm rot="5400000">
              <a:off x="4499640" y="1556640"/>
              <a:ext cx="144360" cy="1584000"/>
            </a:xfrm>
            <a:custGeom>
              <a:avLst/>
              <a:gdLst>
                <a:gd name="textAreaLeft" fmla="*/ 0 w 144360"/>
                <a:gd name="textAreaRight" fmla="*/ 52200 w 144360"/>
                <a:gd name="textAreaTop" fmla="*/ 41040 h 1584000"/>
                <a:gd name="textAreaBottom" fmla="*/ 1542960 h 15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53760" y="2414520"/>
              <a:ext cx="67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 txBox="1"/>
          <p:nvPr/>
        </p:nvSpPr>
        <p:spPr>
          <a:xfrm>
            <a:off x="900000" y="5661000"/>
            <a:ext cx="7489800" cy="5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Model evidence = Goodness of fit expected under the prio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/>
          <p:cNvPicPr/>
          <p:nvPr/>
        </p:nvPicPr>
        <p:blipFill>
          <a:blip r:embed="rId1"/>
          <a:srcRect l="0" t="0" r="1782" b="0"/>
          <a:stretch/>
        </p:blipFill>
        <p:spPr>
          <a:xfrm>
            <a:off x="-90360" y="692280"/>
            <a:ext cx="3941640" cy="58482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"/>
          <a:srcRect l="0" t="0" r="3128" b="0"/>
          <a:stretch/>
        </p:blipFill>
        <p:spPr>
          <a:xfrm>
            <a:off x="5364000" y="692280"/>
            <a:ext cx="3888000" cy="58482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424880" y="611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024320" y="611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126800" y="62373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 = -534.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734160" y="62373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 = -536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3"/>
          <a:srcRect l="14790" t="3116" r="17795" b="5703"/>
          <a:stretch/>
        </p:blipFill>
        <p:spPr>
          <a:xfrm>
            <a:off x="3419640" y="1268280"/>
            <a:ext cx="2361960" cy="460872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-28440" y="-27000"/>
            <a:ext cx="70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w to some consequences – examp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424880" y="611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024320" y="611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126800" y="62373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 = -534.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734160" y="62373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 = -536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rcRect l="14790" t="3116" r="17795" b="5703"/>
          <a:stretch/>
        </p:blipFill>
        <p:spPr>
          <a:xfrm>
            <a:off x="3419640" y="1268280"/>
            <a:ext cx="2361960" cy="460872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-28440" y="-27000"/>
            <a:ext cx="70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w to some consequences – exampl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rcRect l="0" t="0" r="1303" b="0"/>
          <a:stretch/>
        </p:blipFill>
        <p:spPr>
          <a:xfrm>
            <a:off x="5435640" y="692280"/>
            <a:ext cx="3960720" cy="5848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3"/>
          <a:srcRect l="0" t="0" r="2218" b="0"/>
          <a:stretch/>
        </p:blipFill>
        <p:spPr>
          <a:xfrm>
            <a:off x="-252360" y="692280"/>
            <a:ext cx="392436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rcRect l="0" t="0" r="3085" b="0"/>
          <a:stretch/>
        </p:blipFill>
        <p:spPr>
          <a:xfrm>
            <a:off x="5435640" y="692280"/>
            <a:ext cx="3889440" cy="584820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2"/>
          <a:srcRect l="0" t="0" r="1782" b="0"/>
          <a:stretch/>
        </p:blipFill>
        <p:spPr>
          <a:xfrm>
            <a:off x="-90360" y="692280"/>
            <a:ext cx="3941640" cy="584820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1424880" y="611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24320" y="611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126800" y="62373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 = -534.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733800" y="62373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 =  -532.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2941560" y="1184400"/>
            <a:ext cx="3502080" cy="50529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-28440" y="-27000"/>
            <a:ext cx="70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w to some consequences – 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" descr=""/>
          <p:cNvPicPr/>
          <p:nvPr/>
        </p:nvPicPr>
        <p:blipFill>
          <a:blip r:embed="rId1"/>
          <a:srcRect l="0" t="0" r="2218" b="0"/>
          <a:stretch/>
        </p:blipFill>
        <p:spPr>
          <a:xfrm>
            <a:off x="-73080" y="692280"/>
            <a:ext cx="3924360" cy="58482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2"/>
          <a:srcRect l="0" t="0" r="3085" b="0"/>
          <a:stretch/>
        </p:blipFill>
        <p:spPr>
          <a:xfrm>
            <a:off x="5435640" y="692280"/>
            <a:ext cx="3889440" cy="584820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1424880" y="611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24320" y="611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126800" y="62373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 = -534.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733800" y="62373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 =  -532.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3"/>
          <a:stretch/>
        </p:blipFill>
        <p:spPr>
          <a:xfrm>
            <a:off x="2941560" y="1184400"/>
            <a:ext cx="3502080" cy="505296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/>
          <p:nvPr/>
        </p:nvSpPr>
        <p:spPr>
          <a:xfrm>
            <a:off x="-28440" y="-27000"/>
            <a:ext cx="70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w to some consequences – exampl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" descr=""/>
          <p:cNvPicPr/>
          <p:nvPr/>
        </p:nvPicPr>
        <p:blipFill>
          <a:blip r:embed="rId1"/>
          <a:srcRect l="0" t="0" r="4032" b="0"/>
          <a:stretch/>
        </p:blipFill>
        <p:spPr>
          <a:xfrm>
            <a:off x="-181080" y="692280"/>
            <a:ext cx="3851280" cy="58482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rcRect l="0" t="0" r="3128" b="0"/>
          <a:stretch/>
        </p:blipFill>
        <p:spPr>
          <a:xfrm>
            <a:off x="5364000" y="692280"/>
            <a:ext cx="3888000" cy="584820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/>
          <p:nvPr/>
        </p:nvSpPr>
        <p:spPr>
          <a:xfrm>
            <a:off x="1424880" y="611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24320" y="611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734160" y="62373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 = -536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-28440" y="-27000"/>
            <a:ext cx="70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w to some consequences – exampl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3"/>
          <a:stretch/>
        </p:blipFill>
        <p:spPr>
          <a:xfrm>
            <a:off x="2843280" y="1197000"/>
            <a:ext cx="3502080" cy="505296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4"/>
          <a:stretch/>
        </p:blipFill>
        <p:spPr>
          <a:xfrm>
            <a:off x="2268360" y="549360"/>
            <a:ext cx="4527720" cy="652284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1117440" y="62373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 = -554.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1" dur="2800" fill="hold"/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  <p:cmd type="call" cmd="stop"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" descr=""/>
          <p:cNvPicPr/>
          <p:nvPr/>
        </p:nvPicPr>
        <p:blipFill>
          <a:blip r:embed="rId1"/>
          <a:srcRect l="0" t="0" r="1303" b="0"/>
          <a:stretch/>
        </p:blipFill>
        <p:spPr>
          <a:xfrm>
            <a:off x="5364000" y="692280"/>
            <a:ext cx="3961080" cy="584820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"/>
          <a:srcRect l="0" t="0" r="4032" b="0"/>
          <a:stretch/>
        </p:blipFill>
        <p:spPr>
          <a:xfrm>
            <a:off x="-181080" y="692280"/>
            <a:ext cx="3851280" cy="584820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424880" y="611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24320" y="611280"/>
            <a:ext cx="99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734160" y="62373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 = -536.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-28440" y="-27000"/>
            <a:ext cx="70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w to some consequences – example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3"/>
          <a:stretch/>
        </p:blipFill>
        <p:spPr>
          <a:xfrm>
            <a:off x="2843280" y="1197000"/>
            <a:ext cx="3502080" cy="5052960"/>
          </a:xfrm>
          <a:prstGeom prst="rect">
            <a:avLst/>
          </a:prstGeom>
          <a:ln w="0">
            <a:noFill/>
          </a:ln>
        </p:spPr>
      </p:pic>
      <p:pic>
        <p:nvPicPr>
          <p:cNvPr id="521" name="" descr=""/>
          <p:cNvPicPr/>
          <p:nvPr/>
        </p:nvPicPr>
        <p:blipFill>
          <a:blip r:embed="rId4"/>
          <a:srcRect l="0" t="49241" r="6686" b="0"/>
          <a:stretch/>
        </p:blipFill>
        <p:spPr>
          <a:xfrm>
            <a:off x="-181080" y="3645000"/>
            <a:ext cx="3745080" cy="2968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117440" y="623736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 = -554.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684360" y="4005360"/>
            <a:ext cx="5676840" cy="21096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177120" y="855720"/>
            <a:ext cx="524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 cannot cre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 not underst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Feynman Stamp"/>
          <p:cNvPicPr/>
          <p:nvPr/>
        </p:nvPicPr>
        <p:blipFill>
          <a:blip r:embed="rId2"/>
          <a:stretch/>
        </p:blipFill>
        <p:spPr>
          <a:xfrm>
            <a:off x="6084720" y="1125360"/>
            <a:ext cx="2562480" cy="159084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3062160" y="27082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hard P. Feyn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34920" y="-27000"/>
            <a:ext cx="189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pigrap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4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5823000" cy="378288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37800" y="-27000"/>
            <a:ext cx="618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 that’s where this is coming fr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13200" y="5535720"/>
            <a:ext cx="8565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best model is the one with precise priors that yield good fit to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9240" y="-27000"/>
            <a:ext cx="316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ne more th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rcRect l="0" t="0" r="3128" b="0"/>
          <a:stretch/>
        </p:blipFill>
        <p:spPr>
          <a:xfrm>
            <a:off x="250920" y="620640"/>
            <a:ext cx="3887640" cy="584856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4356000" y="549360"/>
            <a:ext cx="4527720" cy="6522840"/>
          </a:xfrm>
          <a:prstGeom prst="rect">
            <a:avLst/>
          </a:prstGeom>
          <a:ln w="0">
            <a:noFill/>
          </a:ln>
        </p:spPr>
      </p:pic>
      <p:pic>
        <p:nvPicPr>
          <p:cNvPr id="529" name="" descr=""/>
          <p:cNvPicPr/>
          <p:nvPr/>
        </p:nvPicPr>
        <p:blipFill>
          <a:blip r:embed="rId3"/>
          <a:srcRect l="0" t="48036" r="3122" b="0"/>
          <a:stretch/>
        </p:blipFill>
        <p:spPr>
          <a:xfrm>
            <a:off x="250920" y="3414600"/>
            <a:ext cx="3887640" cy="303876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1126440" y="623736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F = -597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600" fill="hold"/>
                                        <p:tgtEl>
                                          <p:spTgt spid="5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"/>
                            </p:stCondLst>
                            <p:childTnLst>
                              <p:par>
                                <p:cTn id="2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5905440" cy="36576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Figure 8: Richard FitzHugh with analog computer at NIH, ca. 1960."/>
          <p:cNvPicPr/>
          <p:nvPr/>
        </p:nvPicPr>
        <p:blipFill>
          <a:blip r:embed="rId2"/>
          <a:stretch/>
        </p:blipFill>
        <p:spPr>
          <a:xfrm>
            <a:off x="6651720" y="623880"/>
            <a:ext cx="2384280" cy="294948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3483000" y="6548400"/>
            <a:ext cx="272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from Gerstner and Kistler ,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682560" y="692280"/>
                <a:ext cx="3745080" cy="19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w</m:t>
                        </m:r>
                        <m:r>
                          <m:t xml:space="preserve">+</m:t>
                        </m:r>
                        <m:r>
                          <m:t xml:space="preserve">U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τ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w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35" name=""/>
          <p:cNvSpPr/>
          <p:nvPr/>
        </p:nvSpPr>
        <p:spPr>
          <a:xfrm>
            <a:off x="7560" y="0"/>
            <a:ext cx="43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  <a:ea typeface="Arial"/>
              </a:rPr>
              <a:t>FitzHugh-Nagumo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581880" y="3573360"/>
            <a:ext cx="23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ichard FitzHugh with analo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mputer at NIH, ca. 196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from Scholarpedi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655680" y="4317840"/>
            <a:ext cx="21909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Paramet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Inpu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Input on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Input amplit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Neural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tau – time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bservation model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utput scal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2205000" y="577800"/>
            <a:ext cx="4527720" cy="65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8400" fill="hold"/>
                                        <p:tgtEl>
                                          <p:spTgt spid="5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-14040" y="-27000"/>
            <a:ext cx="66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ifferences from the 1-paramet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128880" y="3789360"/>
            <a:ext cx="10202400" cy="2960640"/>
            <a:chOff x="128880" y="3789360"/>
            <a:chExt cx="10202400" cy="2960640"/>
          </a:xfrm>
        </p:grpSpPr>
        <p:sp>
          <p:nvSpPr>
            <p:cNvPr id="541" name=""/>
            <p:cNvSpPr/>
            <p:nvPr/>
          </p:nvSpPr>
          <p:spPr>
            <a:xfrm>
              <a:off x="324000" y="3789360"/>
              <a:ext cx="8489880" cy="79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 addition to prior variances, also prior co-variances between parameters must be specified and the model inversion yields posterior co-variances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2" name=""/>
            <p:cNvGrpSpPr/>
            <p:nvPr/>
          </p:nvGrpSpPr>
          <p:grpSpPr>
            <a:xfrm>
              <a:off x="1187280" y="4365720"/>
              <a:ext cx="9144000" cy="2384280"/>
              <a:chOff x="1187280" y="4365720"/>
              <a:chExt cx="9144000" cy="2384280"/>
            </a:xfrm>
          </p:grpSpPr>
          <p:pic>
            <p:nvPicPr>
              <p:cNvPr id="5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87280" y="4365720"/>
                <a:ext cx="9144000" cy="221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>
                <a:off x="2487960" y="6381720"/>
                <a:ext cx="182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rior covarian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380640" y="6381720"/>
                <a:ext cx="2221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osterior correl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" name=""/>
            <p:cNvSpPr/>
            <p:nvPr/>
          </p:nvSpPr>
          <p:spPr>
            <a:xfrm>
              <a:off x="128880" y="4603680"/>
              <a:ext cx="189684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rameter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 onse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put amplitu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ural mode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buClr>
                  <a:srgbClr val="000000"/>
                </a:buClr>
                <a:buFont typeface="Arial"/>
                <a:buAutoNum type="arabicPeriod" startAt="3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u – time consta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108000" y="620640"/>
            <a:ext cx="8686800" cy="2786040"/>
            <a:chOff x="108000" y="620640"/>
            <a:chExt cx="8686800" cy="2786040"/>
          </a:xfrm>
        </p:grpSpPr>
        <p:sp>
          <p:nvSpPr>
            <p:cNvPr id="548" name=""/>
            <p:cNvSpPr/>
            <p:nvPr/>
          </p:nvSpPr>
          <p:spPr>
            <a:xfrm>
              <a:off x="304920" y="620640"/>
              <a:ext cx="84898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re is a hidden state variabl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that does not affect the output directly but is estimated based on its interaction with the observable variable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9" name="" descr=""/>
            <p:cNvPicPr/>
            <p:nvPr/>
          </p:nvPicPr>
          <p:blipFill>
            <a:blip r:embed="rId2"/>
            <a:stretch/>
          </p:blipFill>
          <p:spPr>
            <a:xfrm>
              <a:off x="108000" y="1413000"/>
              <a:ext cx="8575560" cy="1993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73240" y="4653000"/>
            <a:ext cx="18968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rameter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put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put on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put amplitu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ural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au – time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13040" y="0"/>
            <a:ext cx="553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FHN model – posterior var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-252360" y="692280"/>
            <a:ext cx="4278240" cy="325116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4716360" y="3568680"/>
            <a:ext cx="4135680" cy="3289320"/>
          </a:xfrm>
          <a:prstGeom prst="rect">
            <a:avLst/>
          </a:prstGeom>
          <a:ln w="0">
            <a:noFill/>
          </a:ln>
        </p:spPr>
      </p:pic>
      <p:pic>
        <p:nvPicPr>
          <p:cNvPr id="554" name="" descr=""/>
          <p:cNvPicPr/>
          <p:nvPr/>
        </p:nvPicPr>
        <p:blipFill>
          <a:blip r:embed="rId3"/>
          <a:stretch/>
        </p:blipFill>
        <p:spPr>
          <a:xfrm>
            <a:off x="4716360" y="404640"/>
            <a:ext cx="4138560" cy="329256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 flipV="1">
            <a:off x="2284560" y="3860280"/>
            <a:ext cx="0" cy="358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3.7037E-007 L 0.0375 -3.7037E-007 E">
                                      <p:cBhvr>
                                        <p:cTn id="281" dur="5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3492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ffect of adding a junk param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7" name=""/>
              <p:cNvSpPr txBox="1"/>
              <p:nvPr/>
            </p:nvSpPr>
            <p:spPr>
              <a:xfrm>
                <a:off x="4284720" y="785880"/>
                <a:ext cx="3529080" cy="105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58" name=""/>
          <p:cNvGrpSpPr/>
          <p:nvPr/>
        </p:nvGrpSpPr>
        <p:grpSpPr>
          <a:xfrm>
            <a:off x="250920" y="476280"/>
            <a:ext cx="2808360" cy="6180120"/>
            <a:chOff x="250920" y="476280"/>
            <a:chExt cx="2808360" cy="6180120"/>
          </a:xfrm>
        </p:grpSpPr>
        <p:pic>
          <p:nvPicPr>
            <p:cNvPr id="559" name="" descr=""/>
            <p:cNvPicPr/>
            <p:nvPr/>
          </p:nvPicPr>
          <p:blipFill>
            <a:blip r:embed="rId1"/>
            <a:srcRect l="34587" t="0" r="32503" b="0"/>
            <a:stretch/>
          </p:blipFill>
          <p:spPr>
            <a:xfrm>
              <a:off x="250920" y="476280"/>
              <a:ext cx="2808360" cy="6180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0" name=""/>
            <p:cNvGrpSpPr/>
            <p:nvPr/>
          </p:nvGrpSpPr>
          <p:grpSpPr>
            <a:xfrm>
              <a:off x="755640" y="5877000"/>
              <a:ext cx="2087280" cy="440640"/>
              <a:chOff x="755640" y="5877000"/>
              <a:chExt cx="2087280" cy="440640"/>
            </a:xfrm>
          </p:grpSpPr>
          <p:grpSp>
            <p:nvGrpSpPr>
              <p:cNvPr id="561" name=""/>
              <p:cNvGrpSpPr/>
              <p:nvPr/>
            </p:nvGrpSpPr>
            <p:grpSpPr>
              <a:xfrm>
                <a:off x="755640" y="5877000"/>
                <a:ext cx="431640" cy="440640"/>
                <a:chOff x="755640" y="5877000"/>
                <a:chExt cx="431640" cy="44064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755640" y="5986440"/>
                  <a:ext cx="216000" cy="21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55640" y="5877000"/>
                  <a:ext cx="4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t</a:t>
                  </a:r>
                  <a:r>
                    <a:rPr b="0" lang="en-GB" sz="2000" spc="-1" strike="noStrike" baseline="-25000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2411280" y="5877000"/>
                <a:ext cx="431640" cy="440640"/>
                <a:chOff x="2411280" y="5877000"/>
                <a:chExt cx="431640" cy="44064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2411280" y="5986440"/>
                  <a:ext cx="216000" cy="21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2411280" y="5877000"/>
                  <a:ext cx="4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t</a:t>
                  </a:r>
                  <a:r>
                    <a:rPr b="0" lang="en-GB" sz="2000" spc="-1" strike="noStrike" baseline="-25000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67" name=""/>
            <p:cNvSpPr/>
            <p:nvPr/>
          </p:nvSpPr>
          <p:spPr>
            <a:xfrm>
              <a:off x="611280" y="836640"/>
              <a:ext cx="431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t</a:t>
              </a:r>
              <a:r>
                <a:rPr b="0" lang="en-GB" sz="2000" spc="-1" strike="noStrike" baseline="-25000">
                  <a:solidFill>
                    <a:srgbClr val="ffffff"/>
                  </a:solidFill>
                  <a:latin typeface="Times New Roman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484360" y="2671920"/>
              <a:ext cx="43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t</a:t>
              </a:r>
              <a:r>
                <a:rPr b="0" lang="en-GB" sz="2000" spc="-1" strike="noStrike" baseline="-25000">
                  <a:solidFill>
                    <a:srgbClr val="ffffff"/>
                  </a:solidFill>
                  <a:latin typeface="Times New Roman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9" name="" descr=""/>
          <p:cNvPicPr/>
          <p:nvPr/>
        </p:nvPicPr>
        <p:blipFill>
          <a:blip r:embed="rId2"/>
          <a:srcRect l="15510" t="0" r="18593" b="4422"/>
          <a:stretch/>
        </p:blipFill>
        <p:spPr>
          <a:xfrm>
            <a:off x="4863960" y="1773360"/>
            <a:ext cx="222912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3492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ffect of correlated paramet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4643280" y="765000"/>
                <a:ext cx="2881440" cy="105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572" name=""/>
          <p:cNvGrpSpPr/>
          <p:nvPr/>
        </p:nvGrpSpPr>
        <p:grpSpPr>
          <a:xfrm>
            <a:off x="395280" y="907920"/>
            <a:ext cx="2505240" cy="5442840"/>
            <a:chOff x="395280" y="907920"/>
            <a:chExt cx="2505240" cy="5442840"/>
          </a:xfrm>
        </p:grpSpPr>
        <p:pic>
          <p:nvPicPr>
            <p:cNvPr id="573" name="" descr=""/>
            <p:cNvPicPr/>
            <p:nvPr/>
          </p:nvPicPr>
          <p:blipFill>
            <a:blip r:embed="rId1"/>
            <a:srcRect l="39356" t="6860" r="37015" b="6929"/>
            <a:stretch/>
          </p:blipFill>
          <p:spPr>
            <a:xfrm>
              <a:off x="395280" y="988920"/>
              <a:ext cx="2505240" cy="5246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4" name=""/>
            <p:cNvGrpSpPr/>
            <p:nvPr/>
          </p:nvGrpSpPr>
          <p:grpSpPr>
            <a:xfrm>
              <a:off x="739800" y="5910120"/>
              <a:ext cx="2087280" cy="440640"/>
              <a:chOff x="739800" y="5910120"/>
              <a:chExt cx="2087280" cy="440640"/>
            </a:xfrm>
          </p:grpSpPr>
          <p:grpSp>
            <p:nvGrpSpPr>
              <p:cNvPr id="575" name=""/>
              <p:cNvGrpSpPr/>
              <p:nvPr/>
            </p:nvGrpSpPr>
            <p:grpSpPr>
              <a:xfrm>
                <a:off x="739800" y="5910120"/>
                <a:ext cx="431640" cy="440640"/>
                <a:chOff x="739800" y="5910120"/>
                <a:chExt cx="431640" cy="44064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739800" y="6019560"/>
                  <a:ext cx="216000" cy="21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739800" y="5910120"/>
                  <a:ext cx="4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t</a:t>
                  </a:r>
                  <a:r>
                    <a:rPr b="0" lang="en-GB" sz="2000" spc="-1" strike="noStrike" baseline="-25000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8" name=""/>
              <p:cNvGrpSpPr/>
              <p:nvPr/>
            </p:nvGrpSpPr>
            <p:grpSpPr>
              <a:xfrm>
                <a:off x="2395440" y="5910120"/>
                <a:ext cx="431640" cy="440640"/>
                <a:chOff x="2395440" y="5910120"/>
                <a:chExt cx="431640" cy="440640"/>
              </a:xfrm>
            </p:grpSpPr>
            <p:sp>
              <p:nvSpPr>
                <p:cNvPr id="579" name=""/>
                <p:cNvSpPr/>
                <p:nvPr/>
              </p:nvSpPr>
              <p:spPr>
                <a:xfrm>
                  <a:off x="2395440" y="6019560"/>
                  <a:ext cx="216000" cy="21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395440" y="5910120"/>
                  <a:ext cx="4316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0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t</a:t>
                  </a:r>
                  <a:r>
                    <a:rPr b="0" lang="en-GB" sz="2000" spc="-1" strike="noStrike" baseline="-25000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1" name=""/>
            <p:cNvSpPr/>
            <p:nvPr/>
          </p:nvSpPr>
          <p:spPr>
            <a:xfrm>
              <a:off x="595440" y="907920"/>
              <a:ext cx="431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t</a:t>
              </a:r>
              <a:r>
                <a:rPr b="0" lang="en-GB" sz="2000" spc="-1" strike="noStrike" baseline="-25000">
                  <a:solidFill>
                    <a:srgbClr val="ffffff"/>
                  </a:solidFill>
                  <a:latin typeface="Times New Roman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2468520" y="2743200"/>
              <a:ext cx="432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ffffff"/>
                  </a:solidFill>
                  <a:latin typeface="Times New Roman"/>
                  <a:ea typeface="Arial"/>
                </a:rPr>
                <a:t>t</a:t>
              </a:r>
              <a:r>
                <a:rPr b="0" lang="en-GB" sz="2000" spc="-1" strike="noStrike" baseline="-25000">
                  <a:solidFill>
                    <a:srgbClr val="ffffff"/>
                  </a:solidFill>
                  <a:latin typeface="Times New Roman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4213080" y="3427560"/>
            <a:ext cx="3527280" cy="3097080"/>
            <a:chOff x="4213080" y="3427560"/>
            <a:chExt cx="3527280" cy="3097080"/>
          </a:xfrm>
        </p:grpSpPr>
        <p:pic>
          <p:nvPicPr>
            <p:cNvPr id="584" name="" descr=""/>
            <p:cNvPicPr/>
            <p:nvPr/>
          </p:nvPicPr>
          <p:blipFill>
            <a:blip r:embed="rId2"/>
            <a:stretch/>
          </p:blipFill>
          <p:spPr>
            <a:xfrm>
              <a:off x="4213080" y="3427560"/>
              <a:ext cx="3527280" cy="264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" name=""/>
            <p:cNvSpPr/>
            <p:nvPr/>
          </p:nvSpPr>
          <p:spPr>
            <a:xfrm>
              <a:off x="5221080" y="5875560"/>
              <a:ext cx="1800360" cy="4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5221080" y="5732640"/>
              <a:ext cx="431640" cy="440640"/>
              <a:chOff x="5221080" y="5732640"/>
              <a:chExt cx="431640" cy="440640"/>
            </a:xfrm>
          </p:grpSpPr>
          <p:sp>
            <p:nvSpPr>
              <p:cNvPr id="587" name=""/>
              <p:cNvSpPr/>
              <p:nvPr/>
            </p:nvSpPr>
            <p:spPr>
              <a:xfrm>
                <a:off x="5221080" y="5842080"/>
                <a:ext cx="216000" cy="2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221080" y="5732640"/>
                <a:ext cx="4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t</a:t>
                </a:r>
                <a:r>
                  <a:rPr b="0" lang="en-GB" sz="2000" spc="-1" strike="noStrike" baseline="-25000">
                    <a:solidFill>
                      <a:srgbClr val="000000"/>
                    </a:solidFill>
                    <a:latin typeface="Times New Roman"/>
                    <a:ea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5725800" y="5732640"/>
              <a:ext cx="431640" cy="440640"/>
              <a:chOff x="5725800" y="5732640"/>
              <a:chExt cx="431640" cy="440640"/>
            </a:xfrm>
          </p:grpSpPr>
          <p:sp>
            <p:nvSpPr>
              <p:cNvPr id="590" name=""/>
              <p:cNvSpPr/>
              <p:nvPr/>
            </p:nvSpPr>
            <p:spPr>
              <a:xfrm>
                <a:off x="5725800" y="5842080"/>
                <a:ext cx="216000" cy="216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725800" y="5732640"/>
                <a:ext cx="431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t</a:t>
                </a:r>
                <a:r>
                  <a:rPr b="0" lang="en-GB" sz="2000" spc="-1" strike="noStrike" baseline="-25000">
                    <a:solidFill>
                      <a:srgbClr val="000000"/>
                    </a:solidFill>
                    <a:latin typeface="Times New Roman"/>
                    <a:ea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6194160" y="5803920"/>
              <a:ext cx="540000" cy="21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5400000">
              <a:off x="5937120" y="5943960"/>
              <a:ext cx="72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</a:t>
              </a:r>
              <a:r>
                <a:rPr b="0" lang="en-GB" sz="20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t</a:t>
              </a:r>
              <a:r>
                <a:rPr b="0" lang="en-GB" sz="20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5400000">
              <a:off x="6405480" y="5943960"/>
              <a:ext cx="720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t</a:t>
              </a:r>
              <a:r>
                <a:rPr b="0" lang="en-GB" sz="20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1</a:t>
              </a:r>
              <a:r>
                <a:rPr b="0" lang="en-GB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t</a:t>
              </a:r>
              <a:r>
                <a:rPr b="0" lang="en-GB" sz="2000" spc="-1" strike="noStrike" baseline="-25000">
                  <a:solidFill>
                    <a:srgbClr val="000000"/>
                  </a:solidFill>
                  <a:latin typeface="Times New Roman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3997440" y="2205000"/>
            <a:ext cx="4103640" cy="1185840"/>
            <a:chOff x="3997440" y="2205000"/>
            <a:chExt cx="4103640" cy="1185840"/>
          </a:xfrm>
        </p:grpSpPr>
        <p:sp>
          <p:nvSpPr>
            <p:cNvPr id="596" name=""/>
            <p:cNvSpPr/>
            <p:nvPr/>
          </p:nvSpPr>
          <p:spPr>
            <a:xfrm>
              <a:off x="4720680" y="2205000"/>
              <a:ext cx="2629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ntrasts of parame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7" name=""/>
                <p:cNvSpPr txBox="1"/>
                <p:nvPr/>
              </p:nvSpPr>
              <p:spPr>
                <a:xfrm>
                  <a:off x="3997440" y="2706840"/>
                  <a:ext cx="4103640" cy="68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  <m:acc>
                        <m:accPr>
                          <m:chr m:val="^"/>
                        </m:accPr>
                        <m:e>
                          <m:r>
                            <m:t xml:space="preserve">ϑ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~</m:t>
                      </m:r>
                      <m:r>
                        <m:t xml:space="preserve">N</m:t>
                      </m:r>
                      <m:r>
                        <m:t xml:space="preserve">(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  <m:r>
                        <m:t xml:space="preserve">ϑ</m:t>
                      </m:r>
                      <m:r>
                        <m:t xml:space="preserve">,</m:t>
                      </m:r>
                      <m:sSup>
                        <m:e>
                          <m:r>
                            <m:t xml:space="preserve">c</m:t>
                          </m:r>
                        </m:e>
                        <m:sup>
                          <m:r>
                            <m:t xml:space="preserve">T</m:t>
                          </m:r>
                        </m:sup>
                      </m:sSup>
                      <m:r>
                        <m:t xml:space="preserve">(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Cp</m:t>
                          </m:r>
                        </m:e>
                        <m:sub>
                          <m:r>
                            <m:t xml:space="preserve">ϑ</m:t>
                          </m:r>
                        </m:sub>
                      </m:sSub>
                      <m:r>
                        <m:t xml:space="preserve">)</m:t>
                      </m:r>
                      <m:r>
                        <m:t xml:space="preserve">c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8" name="" descr=""/>
          <p:cNvPicPr/>
          <p:nvPr/>
        </p:nvPicPr>
        <p:blipFill>
          <a:blip r:embed="rId1"/>
          <a:srcRect l="20246" t="7198" r="16331" b="9987"/>
          <a:stretch/>
        </p:blipFill>
        <p:spPr>
          <a:xfrm>
            <a:off x="5940360" y="2276640"/>
            <a:ext cx="2710080" cy="265428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2"/>
          <a:srcRect l="20246" t="7198" r="17681" b="9987"/>
          <a:stretch/>
        </p:blipFill>
        <p:spPr>
          <a:xfrm>
            <a:off x="695160" y="2276640"/>
            <a:ext cx="2652840" cy="26542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116000" y="907920"/>
            <a:ext cx="6985080" cy="172728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 flipV="1">
            <a:off x="1114920" y="5014800"/>
            <a:ext cx="6985080" cy="1727280"/>
          </a:xfrm>
          <a:custGeom>
            <a:avLst/>
            <a:gdLst>
              <a:gd name="textAreaLeft" fmla="*/ -360 w 6985080"/>
              <a:gd name="textAreaRight" fmla="*/ 6985080 w 6985080"/>
              <a:gd name="textAreaTop" fmla="*/ 360 h 1727280"/>
              <a:gd name="textAreaBottom" fmla="*/ 1728000 h 172728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518160" y="1268280"/>
            <a:ext cx="136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Arial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480720" y="4883040"/>
            <a:ext cx="160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os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540440" y="4883040"/>
            <a:ext cx="93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492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DCM as integrative frame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-797400" y="2007720"/>
            <a:ext cx="6130440" cy="4764600"/>
            <a:chOff x="-797400" y="2007720"/>
            <a:chExt cx="6130440" cy="4764600"/>
          </a:xfrm>
        </p:grpSpPr>
        <p:pic>
          <p:nvPicPr>
            <p:cNvPr id="607" name="" descr=""/>
            <p:cNvPicPr/>
            <p:nvPr/>
          </p:nvPicPr>
          <p:blipFill>
            <a:blip r:embed="rId1"/>
            <a:stretch/>
          </p:blipFill>
          <p:spPr>
            <a:xfrm rot="60000">
              <a:off x="48240" y="4146480"/>
              <a:ext cx="400068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8" name="" descr=""/>
            <p:cNvPicPr/>
            <p:nvPr/>
          </p:nvPicPr>
          <p:blipFill>
            <a:blip r:embed="rId2"/>
            <a:stretch/>
          </p:blipFill>
          <p:spPr>
            <a:xfrm rot="60000">
              <a:off x="822600" y="2918520"/>
              <a:ext cx="2181240" cy="105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9" name="" descr=""/>
            <p:cNvPicPr/>
            <p:nvPr/>
          </p:nvPicPr>
          <p:blipFill>
            <a:blip r:embed="rId3"/>
            <a:stretch/>
          </p:blipFill>
          <p:spPr>
            <a:xfrm rot="60000">
              <a:off x="144720" y="2676960"/>
              <a:ext cx="638280" cy="26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0" name="" descr=""/>
            <p:cNvPicPr/>
            <p:nvPr/>
          </p:nvPicPr>
          <p:blipFill>
            <a:blip r:embed="rId4"/>
            <a:srcRect l="0" t="34879" r="8842" b="41858"/>
            <a:stretch/>
          </p:blipFill>
          <p:spPr>
            <a:xfrm rot="60000">
              <a:off x="-792720" y="2061000"/>
              <a:ext cx="6121440" cy="57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1" name="" descr=""/>
          <p:cNvPicPr/>
          <p:nvPr/>
        </p:nvPicPr>
        <p:blipFill>
          <a:blip r:embed="rId5"/>
          <a:stretch/>
        </p:blipFill>
        <p:spPr>
          <a:xfrm>
            <a:off x="39600" y="549360"/>
            <a:ext cx="932040" cy="1317600"/>
          </a:xfrm>
          <a:prstGeom prst="rect">
            <a:avLst/>
          </a:prstGeom>
          <a:ln w="0">
            <a:noFill/>
          </a:ln>
        </p:spPr>
      </p:pic>
      <p:pic>
        <p:nvPicPr>
          <p:cNvPr id="612" name="" descr=""/>
          <p:cNvPicPr/>
          <p:nvPr/>
        </p:nvPicPr>
        <p:blipFill>
          <a:blip r:embed="rId6"/>
          <a:stretch/>
        </p:blipFill>
        <p:spPr>
          <a:xfrm>
            <a:off x="1189080" y="549360"/>
            <a:ext cx="934920" cy="1322280"/>
          </a:xfrm>
          <a:prstGeom prst="rect">
            <a:avLst/>
          </a:prstGeom>
          <a:ln w="0">
            <a:noFill/>
          </a:ln>
        </p:spPr>
      </p:pic>
      <p:sp>
        <p:nvSpPr>
          <p:cNvPr id="613" name=""/>
          <p:cNvSpPr/>
          <p:nvPr/>
        </p:nvSpPr>
        <p:spPr>
          <a:xfrm>
            <a:off x="-51120" y="184464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. L. Hodg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03480" y="1844640"/>
            <a:ext cx="92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. Huxl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492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nd finally – the real th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" descr=""/>
          <p:cNvPicPr/>
          <p:nvPr/>
        </p:nvPicPr>
        <p:blipFill>
          <a:blip r:embed="rId7"/>
          <a:stretch/>
        </p:blipFill>
        <p:spPr>
          <a:xfrm>
            <a:off x="4788000" y="574560"/>
            <a:ext cx="4332240" cy="6239160"/>
          </a:xfrm>
          <a:prstGeom prst="rect">
            <a:avLst/>
          </a:prstGeom>
          <a:ln w="0">
            <a:noFill/>
          </a:ln>
        </p:spPr>
      </p:pic>
      <p:sp>
        <p:nvSpPr>
          <p:cNvPr id="617" name=""/>
          <p:cNvSpPr/>
          <p:nvPr/>
        </p:nvSpPr>
        <p:spPr>
          <a:xfrm>
            <a:off x="4572000" y="6597720"/>
            <a:ext cx="4572000" cy="260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5" dur="4400" fill="hold"/>
                                        <p:tgtEl>
                                          <p:spTgt spid="6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24"/>
          <p:cNvSpPr/>
          <p:nvPr/>
        </p:nvSpPr>
        <p:spPr>
          <a:xfrm>
            <a:off x="187560" y="385128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CM for steady-state respo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4"/>
          <p:cNvSpPr/>
          <p:nvPr/>
        </p:nvSpPr>
        <p:spPr>
          <a:xfrm>
            <a:off x="183240" y="1835280"/>
            <a:ext cx="371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CM for 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+second-order mean-field DC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4"/>
          <p:cNvSpPr/>
          <p:nvPr/>
        </p:nvSpPr>
        <p:spPr>
          <a:xfrm>
            <a:off x="188280" y="5407200"/>
            <a:ext cx="32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CM for induced respons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4"/>
          <p:cNvSpPr/>
          <p:nvPr/>
        </p:nvSpPr>
        <p:spPr>
          <a:xfrm>
            <a:off x="188280" y="6093000"/>
            <a:ext cx="284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CM for phase coupl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731"/>
          <p:cNvGrpSpPr/>
          <p:nvPr/>
        </p:nvGrpSpPr>
        <p:grpSpPr>
          <a:xfrm>
            <a:off x="3991680" y="1468440"/>
            <a:ext cx="1396080" cy="1388160"/>
            <a:chOff x="3991680" y="1468440"/>
            <a:chExt cx="1396080" cy="1388160"/>
          </a:xfrm>
        </p:grpSpPr>
        <p:sp>
          <p:nvSpPr>
            <p:cNvPr id="180" name="Rectangle 11"/>
            <p:cNvSpPr/>
            <p:nvPr/>
          </p:nvSpPr>
          <p:spPr>
            <a:xfrm>
              <a:off x="4121280" y="1515240"/>
              <a:ext cx="1207440" cy="121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2"/>
            <p:cNvSpPr/>
            <p:nvPr/>
          </p:nvSpPr>
          <p:spPr>
            <a:xfrm>
              <a:off x="4121280" y="1515240"/>
              <a:ext cx="1207440" cy="1217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3"/>
            <p:cNvSpPr/>
            <p:nvPr/>
          </p:nvSpPr>
          <p:spPr>
            <a:xfrm>
              <a:off x="4121280" y="1515240"/>
              <a:ext cx="120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"/>
            <p:cNvSpPr/>
            <p:nvPr/>
          </p:nvSpPr>
          <p:spPr>
            <a:xfrm>
              <a:off x="4121280" y="1515240"/>
              <a:ext cx="1207440" cy="12175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5"/>
            <p:cNvSpPr/>
            <p:nvPr/>
          </p:nvSpPr>
          <p:spPr>
            <a:xfrm flipV="1">
              <a:off x="4121280" y="1515240"/>
              <a:ext cx="0" cy="121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6"/>
            <p:cNvSpPr/>
            <p:nvPr/>
          </p:nvSpPr>
          <p:spPr>
            <a:xfrm>
              <a:off x="4121280" y="2732760"/>
              <a:ext cx="120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Line 17"/>
            <p:cNvSpPr/>
            <p:nvPr/>
          </p:nvSpPr>
          <p:spPr>
            <a:xfrm flipV="1">
              <a:off x="4121280" y="1515240"/>
              <a:ext cx="0" cy="121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18"/>
            <p:cNvSpPr/>
            <p:nvPr/>
          </p:nvSpPr>
          <p:spPr>
            <a:xfrm flipV="1">
              <a:off x="4121280" y="2714760"/>
              <a:ext cx="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Line 19"/>
            <p:cNvSpPr/>
            <p:nvPr/>
          </p:nvSpPr>
          <p:spPr>
            <a:xfrm>
              <a:off x="4121280" y="1515240"/>
              <a:ext cx="0" cy="1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Rectangle 20"/>
            <p:cNvSpPr/>
            <p:nvPr/>
          </p:nvSpPr>
          <p:spPr>
            <a:xfrm>
              <a:off x="4101120" y="274968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1"/>
            <p:cNvSpPr/>
            <p:nvPr/>
          </p:nvSpPr>
          <p:spPr>
            <a:xfrm flipV="1">
              <a:off x="4528440" y="2714760"/>
              <a:ext cx="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22"/>
            <p:cNvSpPr/>
            <p:nvPr/>
          </p:nvSpPr>
          <p:spPr>
            <a:xfrm>
              <a:off x="4528440" y="1515240"/>
              <a:ext cx="0" cy="1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23"/>
            <p:cNvSpPr/>
            <p:nvPr/>
          </p:nvSpPr>
          <p:spPr>
            <a:xfrm>
              <a:off x="4467240" y="2749680"/>
              <a:ext cx="11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Line 24"/>
            <p:cNvSpPr/>
            <p:nvPr/>
          </p:nvSpPr>
          <p:spPr>
            <a:xfrm flipV="1">
              <a:off x="4928760" y="2714760"/>
              <a:ext cx="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Line 25"/>
            <p:cNvSpPr/>
            <p:nvPr/>
          </p:nvSpPr>
          <p:spPr>
            <a:xfrm>
              <a:off x="4928760" y="1515240"/>
              <a:ext cx="0" cy="1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26"/>
            <p:cNvSpPr/>
            <p:nvPr/>
          </p:nvSpPr>
          <p:spPr>
            <a:xfrm>
              <a:off x="4867920" y="2749680"/>
              <a:ext cx="11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2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27"/>
            <p:cNvSpPr/>
            <p:nvPr/>
          </p:nvSpPr>
          <p:spPr>
            <a:xfrm flipV="1">
              <a:off x="5329080" y="2714760"/>
              <a:ext cx="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28"/>
            <p:cNvSpPr/>
            <p:nvPr/>
          </p:nvSpPr>
          <p:spPr>
            <a:xfrm>
              <a:off x="5329080" y="1515240"/>
              <a:ext cx="0" cy="1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Rectangle 29"/>
            <p:cNvSpPr/>
            <p:nvPr/>
          </p:nvSpPr>
          <p:spPr>
            <a:xfrm>
              <a:off x="5268240" y="2749680"/>
              <a:ext cx="11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3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30"/>
            <p:cNvSpPr/>
            <p:nvPr/>
          </p:nvSpPr>
          <p:spPr>
            <a:xfrm>
              <a:off x="4121280" y="273276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31"/>
            <p:cNvSpPr/>
            <p:nvPr/>
          </p:nvSpPr>
          <p:spPr>
            <a:xfrm flipH="1">
              <a:off x="5311080" y="273276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Rectangle 32"/>
            <p:cNvSpPr/>
            <p:nvPr/>
          </p:nvSpPr>
          <p:spPr>
            <a:xfrm>
              <a:off x="4066200" y="268596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33"/>
            <p:cNvSpPr/>
            <p:nvPr/>
          </p:nvSpPr>
          <p:spPr>
            <a:xfrm>
              <a:off x="4121280" y="248688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34"/>
            <p:cNvSpPr/>
            <p:nvPr/>
          </p:nvSpPr>
          <p:spPr>
            <a:xfrm flipH="1">
              <a:off x="5311080" y="248688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35"/>
            <p:cNvSpPr/>
            <p:nvPr/>
          </p:nvSpPr>
          <p:spPr>
            <a:xfrm>
              <a:off x="4029480" y="2440080"/>
              <a:ext cx="79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36"/>
            <p:cNvSpPr/>
            <p:nvPr/>
          </p:nvSpPr>
          <p:spPr>
            <a:xfrm>
              <a:off x="4121280" y="224640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37"/>
            <p:cNvSpPr/>
            <p:nvPr/>
          </p:nvSpPr>
          <p:spPr>
            <a:xfrm flipH="1">
              <a:off x="5311080" y="224640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38"/>
            <p:cNvSpPr/>
            <p:nvPr/>
          </p:nvSpPr>
          <p:spPr>
            <a:xfrm>
              <a:off x="3991680" y="2199600"/>
              <a:ext cx="11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9"/>
            <p:cNvSpPr/>
            <p:nvPr/>
          </p:nvSpPr>
          <p:spPr>
            <a:xfrm>
              <a:off x="4121280" y="200052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40"/>
            <p:cNvSpPr/>
            <p:nvPr/>
          </p:nvSpPr>
          <p:spPr>
            <a:xfrm flipH="1">
              <a:off x="5311080" y="200052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41"/>
            <p:cNvSpPr/>
            <p:nvPr/>
          </p:nvSpPr>
          <p:spPr>
            <a:xfrm>
              <a:off x="3991680" y="1953720"/>
              <a:ext cx="11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1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42"/>
            <p:cNvSpPr/>
            <p:nvPr/>
          </p:nvSpPr>
          <p:spPr>
            <a:xfrm>
              <a:off x="4121280" y="176112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43"/>
            <p:cNvSpPr/>
            <p:nvPr/>
          </p:nvSpPr>
          <p:spPr>
            <a:xfrm flipH="1">
              <a:off x="5311080" y="176112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44"/>
            <p:cNvSpPr/>
            <p:nvPr/>
          </p:nvSpPr>
          <p:spPr>
            <a:xfrm>
              <a:off x="3991680" y="1714320"/>
              <a:ext cx="11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2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Line 45"/>
            <p:cNvSpPr/>
            <p:nvPr/>
          </p:nvSpPr>
          <p:spPr>
            <a:xfrm>
              <a:off x="4121280" y="151524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Line 46"/>
            <p:cNvSpPr/>
            <p:nvPr/>
          </p:nvSpPr>
          <p:spPr>
            <a:xfrm flipH="1">
              <a:off x="5311080" y="151524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47"/>
            <p:cNvSpPr/>
            <p:nvPr/>
          </p:nvSpPr>
          <p:spPr>
            <a:xfrm>
              <a:off x="3991680" y="1468440"/>
              <a:ext cx="11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25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Line 48"/>
            <p:cNvSpPr/>
            <p:nvPr/>
          </p:nvSpPr>
          <p:spPr>
            <a:xfrm>
              <a:off x="4121280" y="1515240"/>
              <a:ext cx="1207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9"/>
            <p:cNvSpPr/>
            <p:nvPr/>
          </p:nvSpPr>
          <p:spPr>
            <a:xfrm>
              <a:off x="4121280" y="1515240"/>
              <a:ext cx="1207440" cy="12175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Line 50"/>
            <p:cNvSpPr/>
            <p:nvPr/>
          </p:nvSpPr>
          <p:spPr>
            <a:xfrm flipV="1">
              <a:off x="4121280" y="1515240"/>
              <a:ext cx="0" cy="121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51"/>
            <p:cNvSpPr/>
            <p:nvPr/>
          </p:nvSpPr>
          <p:spPr>
            <a:xfrm>
              <a:off x="4127760" y="1632240"/>
              <a:ext cx="1015200" cy="1100520"/>
            </a:xfrm>
            <a:prstGeom prst="pie">
              <a:avLst/>
            </a:pr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Group 732"/>
          <p:cNvGrpSpPr/>
          <p:nvPr/>
        </p:nvGrpSpPr>
        <p:grpSpPr>
          <a:xfrm>
            <a:off x="5801760" y="1468440"/>
            <a:ext cx="1422720" cy="1388160"/>
            <a:chOff x="5801760" y="1468440"/>
            <a:chExt cx="1422720" cy="1388160"/>
          </a:xfrm>
        </p:grpSpPr>
        <p:sp>
          <p:nvSpPr>
            <p:cNvPr id="222" name="Rectangle 54"/>
            <p:cNvSpPr/>
            <p:nvPr/>
          </p:nvSpPr>
          <p:spPr>
            <a:xfrm>
              <a:off x="5957640" y="1515240"/>
              <a:ext cx="1208160" cy="121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55"/>
            <p:cNvSpPr/>
            <p:nvPr/>
          </p:nvSpPr>
          <p:spPr>
            <a:xfrm>
              <a:off x="5957640" y="1515240"/>
              <a:ext cx="1208160" cy="12175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56"/>
            <p:cNvSpPr/>
            <p:nvPr/>
          </p:nvSpPr>
          <p:spPr>
            <a:xfrm>
              <a:off x="5957640" y="1515240"/>
              <a:ext cx="1208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Freeform 57"/>
            <p:cNvSpPr/>
            <p:nvPr/>
          </p:nvSpPr>
          <p:spPr>
            <a:xfrm>
              <a:off x="5957640" y="1515240"/>
              <a:ext cx="1208160" cy="12175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Line 58"/>
            <p:cNvSpPr/>
            <p:nvPr/>
          </p:nvSpPr>
          <p:spPr>
            <a:xfrm flipV="1">
              <a:off x="5957640" y="1515240"/>
              <a:ext cx="0" cy="121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Line 59"/>
            <p:cNvSpPr/>
            <p:nvPr/>
          </p:nvSpPr>
          <p:spPr>
            <a:xfrm>
              <a:off x="5957640" y="2732760"/>
              <a:ext cx="1208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Line 60"/>
            <p:cNvSpPr/>
            <p:nvPr/>
          </p:nvSpPr>
          <p:spPr>
            <a:xfrm flipV="1">
              <a:off x="5957640" y="1515240"/>
              <a:ext cx="0" cy="121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Line 61"/>
            <p:cNvSpPr/>
            <p:nvPr/>
          </p:nvSpPr>
          <p:spPr>
            <a:xfrm flipV="1">
              <a:off x="5957640" y="2714760"/>
              <a:ext cx="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Line 62"/>
            <p:cNvSpPr/>
            <p:nvPr/>
          </p:nvSpPr>
          <p:spPr>
            <a:xfrm>
              <a:off x="5957640" y="1515240"/>
              <a:ext cx="0" cy="1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63"/>
            <p:cNvSpPr/>
            <p:nvPr/>
          </p:nvSpPr>
          <p:spPr>
            <a:xfrm>
              <a:off x="5937480" y="274968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64"/>
            <p:cNvSpPr/>
            <p:nvPr/>
          </p:nvSpPr>
          <p:spPr>
            <a:xfrm flipV="1">
              <a:off x="6364440" y="2714760"/>
              <a:ext cx="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65"/>
            <p:cNvSpPr/>
            <p:nvPr/>
          </p:nvSpPr>
          <p:spPr>
            <a:xfrm>
              <a:off x="6364440" y="1515240"/>
              <a:ext cx="0" cy="1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66"/>
            <p:cNvSpPr/>
            <p:nvPr/>
          </p:nvSpPr>
          <p:spPr>
            <a:xfrm>
              <a:off x="6303600" y="2749680"/>
              <a:ext cx="11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67"/>
            <p:cNvSpPr/>
            <p:nvPr/>
          </p:nvSpPr>
          <p:spPr>
            <a:xfrm flipV="1">
              <a:off x="6765120" y="2714760"/>
              <a:ext cx="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68"/>
            <p:cNvSpPr/>
            <p:nvPr/>
          </p:nvSpPr>
          <p:spPr>
            <a:xfrm>
              <a:off x="6765120" y="1515240"/>
              <a:ext cx="0" cy="1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69"/>
            <p:cNvSpPr/>
            <p:nvPr/>
          </p:nvSpPr>
          <p:spPr>
            <a:xfrm>
              <a:off x="6704280" y="2749680"/>
              <a:ext cx="11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2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70"/>
            <p:cNvSpPr/>
            <p:nvPr/>
          </p:nvSpPr>
          <p:spPr>
            <a:xfrm flipV="1">
              <a:off x="7165800" y="2714760"/>
              <a:ext cx="0" cy="18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71"/>
            <p:cNvSpPr/>
            <p:nvPr/>
          </p:nvSpPr>
          <p:spPr>
            <a:xfrm>
              <a:off x="7165800" y="1515240"/>
              <a:ext cx="0" cy="165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72"/>
            <p:cNvSpPr/>
            <p:nvPr/>
          </p:nvSpPr>
          <p:spPr>
            <a:xfrm>
              <a:off x="7104960" y="2749680"/>
              <a:ext cx="11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3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73"/>
            <p:cNvSpPr/>
            <p:nvPr/>
          </p:nvSpPr>
          <p:spPr>
            <a:xfrm>
              <a:off x="5957640" y="273276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74"/>
            <p:cNvSpPr/>
            <p:nvPr/>
          </p:nvSpPr>
          <p:spPr>
            <a:xfrm flipH="1">
              <a:off x="7147800" y="273276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75"/>
            <p:cNvSpPr/>
            <p:nvPr/>
          </p:nvSpPr>
          <p:spPr>
            <a:xfrm>
              <a:off x="5801760" y="2685960"/>
              <a:ext cx="14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-1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76"/>
            <p:cNvSpPr/>
            <p:nvPr/>
          </p:nvSpPr>
          <p:spPr>
            <a:xfrm>
              <a:off x="5957640" y="248688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77"/>
            <p:cNvSpPr/>
            <p:nvPr/>
          </p:nvSpPr>
          <p:spPr>
            <a:xfrm flipH="1">
              <a:off x="7147800" y="248688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78"/>
            <p:cNvSpPr/>
            <p:nvPr/>
          </p:nvSpPr>
          <p:spPr>
            <a:xfrm>
              <a:off x="5839560" y="2440080"/>
              <a:ext cx="104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-8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79"/>
            <p:cNvSpPr/>
            <p:nvPr/>
          </p:nvSpPr>
          <p:spPr>
            <a:xfrm>
              <a:off x="5957640" y="224640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80"/>
            <p:cNvSpPr/>
            <p:nvPr/>
          </p:nvSpPr>
          <p:spPr>
            <a:xfrm flipH="1">
              <a:off x="7147800" y="224640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81"/>
            <p:cNvSpPr/>
            <p:nvPr/>
          </p:nvSpPr>
          <p:spPr>
            <a:xfrm>
              <a:off x="5839560" y="2199600"/>
              <a:ext cx="104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-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82"/>
            <p:cNvSpPr/>
            <p:nvPr/>
          </p:nvSpPr>
          <p:spPr>
            <a:xfrm>
              <a:off x="5957640" y="200052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Line 83"/>
            <p:cNvSpPr/>
            <p:nvPr/>
          </p:nvSpPr>
          <p:spPr>
            <a:xfrm flipH="1">
              <a:off x="7147800" y="200052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84"/>
            <p:cNvSpPr/>
            <p:nvPr/>
          </p:nvSpPr>
          <p:spPr>
            <a:xfrm>
              <a:off x="5839560" y="1953720"/>
              <a:ext cx="104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-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85"/>
            <p:cNvSpPr/>
            <p:nvPr/>
          </p:nvSpPr>
          <p:spPr>
            <a:xfrm>
              <a:off x="5957640" y="176112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86"/>
            <p:cNvSpPr/>
            <p:nvPr/>
          </p:nvSpPr>
          <p:spPr>
            <a:xfrm flipH="1">
              <a:off x="7147800" y="176112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87"/>
            <p:cNvSpPr/>
            <p:nvPr/>
          </p:nvSpPr>
          <p:spPr>
            <a:xfrm>
              <a:off x="5839560" y="1714320"/>
              <a:ext cx="104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-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88"/>
            <p:cNvSpPr/>
            <p:nvPr/>
          </p:nvSpPr>
          <p:spPr>
            <a:xfrm>
              <a:off x="5957640" y="151524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89"/>
            <p:cNvSpPr/>
            <p:nvPr/>
          </p:nvSpPr>
          <p:spPr>
            <a:xfrm flipH="1">
              <a:off x="7147800" y="151524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90"/>
            <p:cNvSpPr/>
            <p:nvPr/>
          </p:nvSpPr>
          <p:spPr>
            <a:xfrm>
              <a:off x="5902200" y="146844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91"/>
            <p:cNvSpPr/>
            <p:nvPr/>
          </p:nvSpPr>
          <p:spPr>
            <a:xfrm>
              <a:off x="5957640" y="1515240"/>
              <a:ext cx="120816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92"/>
            <p:cNvSpPr/>
            <p:nvPr/>
          </p:nvSpPr>
          <p:spPr>
            <a:xfrm>
              <a:off x="5957640" y="1515240"/>
              <a:ext cx="1208160" cy="121752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93"/>
            <p:cNvSpPr/>
            <p:nvPr/>
          </p:nvSpPr>
          <p:spPr>
            <a:xfrm flipV="1">
              <a:off x="5957640" y="1515240"/>
              <a:ext cx="0" cy="121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94"/>
            <p:cNvSpPr/>
            <p:nvPr/>
          </p:nvSpPr>
          <p:spPr>
            <a:xfrm>
              <a:off x="5964120" y="1707480"/>
              <a:ext cx="1015560" cy="837720"/>
            </a:xfrm>
            <a:prstGeom prst="pie">
              <a:avLst/>
            </a:prstGeom>
            <a:noFill/>
            <a:ln w="0">
              <a:solidFill>
                <a:srgbClr val="0000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95"/>
            <p:cNvSpPr/>
            <p:nvPr/>
          </p:nvSpPr>
          <p:spPr>
            <a:xfrm>
              <a:off x="5964120" y="1596960"/>
              <a:ext cx="1015560" cy="889920"/>
            </a:xfrm>
            <a:prstGeom prst="pie">
              <a:avLst/>
            </a:prstGeom>
            <a:noFill/>
            <a:ln w="0">
              <a:solidFill>
                <a:srgbClr val="007f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96"/>
            <p:cNvSpPr/>
            <p:nvPr/>
          </p:nvSpPr>
          <p:spPr>
            <a:xfrm>
              <a:off x="5964120" y="1655640"/>
              <a:ext cx="1015560" cy="824760"/>
            </a:xfrm>
            <a:prstGeom prst="pie">
              <a:avLst/>
            </a:prstGeom>
            <a:noFill/>
            <a:ln w="0">
              <a:solidFill>
                <a:srgbClr val="ff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97"/>
            <p:cNvSpPr/>
            <p:nvPr/>
          </p:nvSpPr>
          <p:spPr>
            <a:xfrm>
              <a:off x="5964120" y="1707480"/>
              <a:ext cx="1015560" cy="807840"/>
            </a:xfrm>
            <a:prstGeom prst="pie">
              <a:avLst/>
            </a:prstGeom>
            <a:noFill/>
            <a:ln w="0">
              <a:solidFill>
                <a:srgbClr val="00bfb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98"/>
            <p:cNvSpPr/>
            <p:nvPr/>
          </p:nvSpPr>
          <p:spPr>
            <a:xfrm>
              <a:off x="5964120" y="1684080"/>
              <a:ext cx="1015560" cy="807840"/>
            </a:xfrm>
            <a:prstGeom prst="pie">
              <a:avLst/>
            </a:prstGeom>
            <a:noFill/>
            <a:ln w="0">
              <a:solidFill>
                <a:srgbClr val="bf00b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99"/>
            <p:cNvSpPr/>
            <p:nvPr/>
          </p:nvSpPr>
          <p:spPr>
            <a:xfrm>
              <a:off x="5964120" y="1620360"/>
              <a:ext cx="1015560" cy="854640"/>
            </a:xfrm>
            <a:prstGeom prst="pie">
              <a:avLst/>
            </a:prstGeom>
            <a:noFill/>
            <a:ln w="0">
              <a:solidFill>
                <a:srgbClr val="bfbf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00"/>
            <p:cNvSpPr/>
            <p:nvPr/>
          </p:nvSpPr>
          <p:spPr>
            <a:xfrm>
              <a:off x="5964120" y="1667160"/>
              <a:ext cx="1015560" cy="824760"/>
            </a:xfrm>
            <a:prstGeom prst="pie">
              <a:avLst/>
            </a:prstGeom>
            <a:noFill/>
            <a:ln w="0">
              <a:solidFill>
                <a:srgbClr val="3f3f3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101"/>
            <p:cNvSpPr/>
            <p:nvPr/>
          </p:nvSpPr>
          <p:spPr>
            <a:xfrm>
              <a:off x="5964120" y="1672560"/>
              <a:ext cx="1015560" cy="819360"/>
            </a:xfrm>
            <a:prstGeom prst="pie">
              <a:avLst/>
            </a:prstGeom>
            <a:noFill/>
            <a:ln w="0">
              <a:solidFill>
                <a:srgbClr val="0000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102"/>
            <p:cNvSpPr/>
            <p:nvPr/>
          </p:nvSpPr>
          <p:spPr>
            <a:xfrm>
              <a:off x="5964120" y="1690920"/>
              <a:ext cx="1015560" cy="824760"/>
            </a:xfrm>
            <a:prstGeom prst="pie">
              <a:avLst/>
            </a:prstGeom>
            <a:noFill/>
            <a:ln w="0">
              <a:solidFill>
                <a:srgbClr val="007f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103"/>
            <p:cNvSpPr/>
            <p:nvPr/>
          </p:nvSpPr>
          <p:spPr>
            <a:xfrm>
              <a:off x="5964120" y="1649160"/>
              <a:ext cx="1015560" cy="889920"/>
            </a:xfrm>
            <a:prstGeom prst="pie">
              <a:avLst/>
            </a:prstGeom>
            <a:noFill/>
            <a:ln w="0">
              <a:solidFill>
                <a:srgbClr val="ff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104"/>
            <p:cNvSpPr/>
            <p:nvPr/>
          </p:nvSpPr>
          <p:spPr>
            <a:xfrm>
              <a:off x="5964120" y="1679040"/>
              <a:ext cx="1015560" cy="878040"/>
            </a:xfrm>
            <a:prstGeom prst="pie">
              <a:avLst/>
            </a:prstGeom>
            <a:noFill/>
            <a:ln w="0">
              <a:solidFill>
                <a:srgbClr val="00bfb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105"/>
            <p:cNvSpPr/>
            <p:nvPr/>
          </p:nvSpPr>
          <p:spPr>
            <a:xfrm>
              <a:off x="5964120" y="1695960"/>
              <a:ext cx="1015560" cy="784440"/>
            </a:xfrm>
            <a:prstGeom prst="pie">
              <a:avLst/>
            </a:prstGeom>
            <a:noFill/>
            <a:ln w="0">
              <a:solidFill>
                <a:srgbClr val="bf00b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106"/>
            <p:cNvSpPr/>
            <p:nvPr/>
          </p:nvSpPr>
          <p:spPr>
            <a:xfrm>
              <a:off x="5964120" y="1660680"/>
              <a:ext cx="1015560" cy="884520"/>
            </a:xfrm>
            <a:prstGeom prst="pie">
              <a:avLst/>
            </a:prstGeom>
            <a:noFill/>
            <a:ln w="0">
              <a:solidFill>
                <a:srgbClr val="bfbf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7"/>
            <p:cNvSpPr/>
            <p:nvPr/>
          </p:nvSpPr>
          <p:spPr>
            <a:xfrm>
              <a:off x="5964120" y="1667160"/>
              <a:ext cx="1015560" cy="854640"/>
            </a:xfrm>
            <a:prstGeom prst="pie">
              <a:avLst/>
            </a:prstGeom>
            <a:noFill/>
            <a:ln w="0">
              <a:solidFill>
                <a:srgbClr val="3f3f3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08"/>
            <p:cNvSpPr/>
            <p:nvPr/>
          </p:nvSpPr>
          <p:spPr>
            <a:xfrm>
              <a:off x="5964120" y="1690920"/>
              <a:ext cx="1015560" cy="812880"/>
            </a:xfrm>
            <a:prstGeom prst="pie">
              <a:avLst/>
            </a:prstGeom>
            <a:noFill/>
            <a:ln w="0">
              <a:solidFill>
                <a:srgbClr val="0000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09"/>
            <p:cNvSpPr/>
            <p:nvPr/>
          </p:nvSpPr>
          <p:spPr>
            <a:xfrm>
              <a:off x="5964120" y="1714320"/>
              <a:ext cx="1015560" cy="777960"/>
            </a:xfrm>
            <a:prstGeom prst="pie">
              <a:avLst/>
            </a:prstGeom>
            <a:noFill/>
            <a:ln w="0">
              <a:solidFill>
                <a:srgbClr val="007f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10"/>
            <p:cNvSpPr/>
            <p:nvPr/>
          </p:nvSpPr>
          <p:spPr>
            <a:xfrm>
              <a:off x="5964120" y="1679040"/>
              <a:ext cx="1015560" cy="831240"/>
            </a:xfrm>
            <a:prstGeom prst="pie">
              <a:avLst/>
            </a:prstGeom>
            <a:noFill/>
            <a:ln w="0">
              <a:solidFill>
                <a:srgbClr val="ff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11"/>
            <p:cNvSpPr/>
            <p:nvPr/>
          </p:nvSpPr>
          <p:spPr>
            <a:xfrm>
              <a:off x="5964120" y="1695960"/>
              <a:ext cx="1015560" cy="831240"/>
            </a:xfrm>
            <a:prstGeom prst="pie">
              <a:avLst/>
            </a:prstGeom>
            <a:noFill/>
            <a:ln w="0">
              <a:solidFill>
                <a:srgbClr val="00bfb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12"/>
            <p:cNvSpPr/>
            <p:nvPr/>
          </p:nvSpPr>
          <p:spPr>
            <a:xfrm>
              <a:off x="5964120" y="1608840"/>
              <a:ext cx="1015560" cy="918360"/>
            </a:xfrm>
            <a:prstGeom prst="pie">
              <a:avLst/>
            </a:prstGeom>
            <a:noFill/>
            <a:ln w="0">
              <a:solidFill>
                <a:srgbClr val="bf00b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113"/>
            <p:cNvSpPr/>
            <p:nvPr/>
          </p:nvSpPr>
          <p:spPr>
            <a:xfrm>
              <a:off x="5964120" y="1649160"/>
              <a:ext cx="1015560" cy="849240"/>
            </a:xfrm>
            <a:prstGeom prst="pie">
              <a:avLst/>
            </a:prstGeom>
            <a:noFill/>
            <a:ln w="0">
              <a:solidFill>
                <a:srgbClr val="bfbf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114"/>
            <p:cNvSpPr/>
            <p:nvPr/>
          </p:nvSpPr>
          <p:spPr>
            <a:xfrm>
              <a:off x="5964120" y="1632240"/>
              <a:ext cx="1015560" cy="913320"/>
            </a:xfrm>
            <a:prstGeom prst="pie">
              <a:avLst/>
            </a:prstGeom>
            <a:noFill/>
            <a:ln w="0">
              <a:solidFill>
                <a:srgbClr val="3f3f3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15"/>
            <p:cNvSpPr/>
            <p:nvPr/>
          </p:nvSpPr>
          <p:spPr>
            <a:xfrm>
              <a:off x="5964120" y="1655640"/>
              <a:ext cx="1015560" cy="824760"/>
            </a:xfrm>
            <a:prstGeom prst="pie">
              <a:avLst/>
            </a:prstGeom>
            <a:noFill/>
            <a:ln w="0">
              <a:solidFill>
                <a:srgbClr val="0000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16"/>
            <p:cNvSpPr/>
            <p:nvPr/>
          </p:nvSpPr>
          <p:spPr>
            <a:xfrm>
              <a:off x="5964120" y="1660680"/>
              <a:ext cx="1015560" cy="866160"/>
            </a:xfrm>
            <a:prstGeom prst="pie">
              <a:avLst/>
            </a:prstGeom>
            <a:noFill/>
            <a:ln w="0">
              <a:solidFill>
                <a:srgbClr val="007f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17"/>
            <p:cNvSpPr/>
            <p:nvPr/>
          </p:nvSpPr>
          <p:spPr>
            <a:xfrm>
              <a:off x="5964120" y="1655640"/>
              <a:ext cx="1015560" cy="848160"/>
            </a:xfrm>
            <a:prstGeom prst="pie">
              <a:avLst/>
            </a:prstGeom>
            <a:noFill/>
            <a:ln w="0">
              <a:solidFill>
                <a:srgbClr val="ff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18"/>
            <p:cNvSpPr/>
            <p:nvPr/>
          </p:nvSpPr>
          <p:spPr>
            <a:xfrm>
              <a:off x="5964120" y="1679040"/>
              <a:ext cx="1015560" cy="807840"/>
            </a:xfrm>
            <a:prstGeom prst="pie">
              <a:avLst/>
            </a:prstGeom>
            <a:noFill/>
            <a:ln w="0">
              <a:solidFill>
                <a:srgbClr val="00bfb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119"/>
            <p:cNvSpPr/>
            <p:nvPr/>
          </p:nvSpPr>
          <p:spPr>
            <a:xfrm>
              <a:off x="5964120" y="1672560"/>
              <a:ext cx="1015560" cy="854640"/>
            </a:xfrm>
            <a:prstGeom prst="pie">
              <a:avLst/>
            </a:prstGeom>
            <a:noFill/>
            <a:ln w="0">
              <a:solidFill>
                <a:srgbClr val="bf00b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120"/>
            <p:cNvSpPr/>
            <p:nvPr/>
          </p:nvSpPr>
          <p:spPr>
            <a:xfrm>
              <a:off x="5964120" y="1690920"/>
              <a:ext cx="1015560" cy="812880"/>
            </a:xfrm>
            <a:prstGeom prst="pie">
              <a:avLst/>
            </a:prstGeom>
            <a:noFill/>
            <a:ln w="0">
              <a:solidFill>
                <a:srgbClr val="bfbf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21"/>
            <p:cNvSpPr/>
            <p:nvPr/>
          </p:nvSpPr>
          <p:spPr>
            <a:xfrm>
              <a:off x="5964120" y="1737720"/>
              <a:ext cx="1015560" cy="772560"/>
            </a:xfrm>
            <a:prstGeom prst="pie">
              <a:avLst/>
            </a:prstGeom>
            <a:noFill/>
            <a:ln w="0">
              <a:solidFill>
                <a:srgbClr val="3f3f3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22"/>
            <p:cNvSpPr/>
            <p:nvPr/>
          </p:nvSpPr>
          <p:spPr>
            <a:xfrm>
              <a:off x="5964120" y="1649160"/>
              <a:ext cx="1015560" cy="849240"/>
            </a:xfrm>
            <a:prstGeom prst="pie">
              <a:avLst/>
            </a:prstGeom>
            <a:noFill/>
            <a:ln w="0">
              <a:solidFill>
                <a:srgbClr val="0000f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23"/>
            <p:cNvSpPr/>
            <p:nvPr/>
          </p:nvSpPr>
          <p:spPr>
            <a:xfrm>
              <a:off x="5964120" y="1643760"/>
              <a:ext cx="1015560" cy="889920"/>
            </a:xfrm>
            <a:prstGeom prst="pie">
              <a:avLst/>
            </a:prstGeom>
            <a:noFill/>
            <a:ln w="0">
              <a:solidFill>
                <a:srgbClr val="007f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24"/>
            <p:cNvSpPr/>
            <p:nvPr/>
          </p:nvSpPr>
          <p:spPr>
            <a:xfrm>
              <a:off x="5964120" y="1672560"/>
              <a:ext cx="1015560" cy="819360"/>
            </a:xfrm>
            <a:prstGeom prst="pie">
              <a:avLst/>
            </a:prstGeom>
            <a:noFill/>
            <a:ln w="0">
              <a:solidFill>
                <a:srgbClr val="ff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25"/>
            <p:cNvSpPr/>
            <p:nvPr/>
          </p:nvSpPr>
          <p:spPr>
            <a:xfrm>
              <a:off x="5964120" y="1742760"/>
              <a:ext cx="1015560" cy="784440"/>
            </a:xfrm>
            <a:prstGeom prst="pie">
              <a:avLst/>
            </a:prstGeom>
            <a:noFill/>
            <a:ln w="0">
              <a:solidFill>
                <a:srgbClr val="00bfbf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Group 734"/>
          <p:cNvGrpSpPr/>
          <p:nvPr/>
        </p:nvGrpSpPr>
        <p:grpSpPr>
          <a:xfrm>
            <a:off x="7392960" y="1468440"/>
            <a:ext cx="1426680" cy="1387800"/>
            <a:chOff x="7392960" y="1468440"/>
            <a:chExt cx="1426680" cy="1387800"/>
          </a:xfrm>
        </p:grpSpPr>
        <p:sp>
          <p:nvSpPr>
            <p:cNvPr id="295" name="Rectangle 128"/>
            <p:cNvSpPr/>
            <p:nvPr/>
          </p:nvSpPr>
          <p:spPr>
            <a:xfrm>
              <a:off x="7548840" y="1508760"/>
              <a:ext cx="1212120" cy="1222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129"/>
            <p:cNvSpPr/>
            <p:nvPr/>
          </p:nvSpPr>
          <p:spPr>
            <a:xfrm>
              <a:off x="7548840" y="1508760"/>
              <a:ext cx="1212120" cy="122220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130"/>
            <p:cNvSpPr/>
            <p:nvPr/>
          </p:nvSpPr>
          <p:spPr>
            <a:xfrm>
              <a:off x="7548840" y="1508760"/>
              <a:ext cx="1212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31"/>
            <p:cNvSpPr/>
            <p:nvPr/>
          </p:nvSpPr>
          <p:spPr>
            <a:xfrm>
              <a:off x="7548840" y="1508760"/>
              <a:ext cx="1212120" cy="12222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132"/>
            <p:cNvSpPr/>
            <p:nvPr/>
          </p:nvSpPr>
          <p:spPr>
            <a:xfrm flipV="1">
              <a:off x="7548840" y="1508400"/>
              <a:ext cx="0" cy="122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133"/>
            <p:cNvSpPr/>
            <p:nvPr/>
          </p:nvSpPr>
          <p:spPr>
            <a:xfrm>
              <a:off x="7548840" y="2731320"/>
              <a:ext cx="1212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134"/>
            <p:cNvSpPr/>
            <p:nvPr/>
          </p:nvSpPr>
          <p:spPr>
            <a:xfrm flipV="1">
              <a:off x="7548840" y="1508400"/>
              <a:ext cx="0" cy="122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135"/>
            <p:cNvSpPr/>
            <p:nvPr/>
          </p:nvSpPr>
          <p:spPr>
            <a:xfrm flipV="1">
              <a:off x="7548840" y="2713680"/>
              <a:ext cx="0" cy="1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136"/>
            <p:cNvSpPr/>
            <p:nvPr/>
          </p:nvSpPr>
          <p:spPr>
            <a:xfrm>
              <a:off x="7548840" y="1515240"/>
              <a:ext cx="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Rectangle 137"/>
            <p:cNvSpPr/>
            <p:nvPr/>
          </p:nvSpPr>
          <p:spPr>
            <a:xfrm>
              <a:off x="7528680" y="274932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138"/>
            <p:cNvSpPr/>
            <p:nvPr/>
          </p:nvSpPr>
          <p:spPr>
            <a:xfrm flipV="1">
              <a:off x="7957440" y="2713680"/>
              <a:ext cx="0" cy="1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139"/>
            <p:cNvSpPr/>
            <p:nvPr/>
          </p:nvSpPr>
          <p:spPr>
            <a:xfrm>
              <a:off x="7957440" y="1515240"/>
              <a:ext cx="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40"/>
            <p:cNvSpPr/>
            <p:nvPr/>
          </p:nvSpPr>
          <p:spPr>
            <a:xfrm>
              <a:off x="7896240" y="2749320"/>
              <a:ext cx="11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1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141"/>
            <p:cNvSpPr/>
            <p:nvPr/>
          </p:nvSpPr>
          <p:spPr>
            <a:xfrm flipV="1">
              <a:off x="8359200" y="2713680"/>
              <a:ext cx="0" cy="1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142"/>
            <p:cNvSpPr/>
            <p:nvPr/>
          </p:nvSpPr>
          <p:spPr>
            <a:xfrm>
              <a:off x="8359200" y="1515240"/>
              <a:ext cx="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Rectangle 143"/>
            <p:cNvSpPr/>
            <p:nvPr/>
          </p:nvSpPr>
          <p:spPr>
            <a:xfrm>
              <a:off x="8298000" y="2749320"/>
              <a:ext cx="11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2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144"/>
            <p:cNvSpPr/>
            <p:nvPr/>
          </p:nvSpPr>
          <p:spPr>
            <a:xfrm flipV="1">
              <a:off x="8761320" y="2713680"/>
              <a:ext cx="0" cy="1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145"/>
            <p:cNvSpPr/>
            <p:nvPr/>
          </p:nvSpPr>
          <p:spPr>
            <a:xfrm>
              <a:off x="8761320" y="1515240"/>
              <a:ext cx="0" cy="11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146"/>
            <p:cNvSpPr/>
            <p:nvPr/>
          </p:nvSpPr>
          <p:spPr>
            <a:xfrm>
              <a:off x="8700120" y="2749320"/>
              <a:ext cx="1195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3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147"/>
            <p:cNvSpPr/>
            <p:nvPr/>
          </p:nvSpPr>
          <p:spPr>
            <a:xfrm>
              <a:off x="7548840" y="273132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148"/>
            <p:cNvSpPr/>
            <p:nvPr/>
          </p:nvSpPr>
          <p:spPr>
            <a:xfrm flipH="1">
              <a:off x="8742960" y="273132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149"/>
            <p:cNvSpPr/>
            <p:nvPr/>
          </p:nvSpPr>
          <p:spPr>
            <a:xfrm>
              <a:off x="7392960" y="2684160"/>
              <a:ext cx="144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-10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150"/>
            <p:cNvSpPr/>
            <p:nvPr/>
          </p:nvSpPr>
          <p:spPr>
            <a:xfrm>
              <a:off x="7548840" y="248436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151"/>
            <p:cNvSpPr/>
            <p:nvPr/>
          </p:nvSpPr>
          <p:spPr>
            <a:xfrm flipH="1">
              <a:off x="8742960" y="248436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152"/>
            <p:cNvSpPr/>
            <p:nvPr/>
          </p:nvSpPr>
          <p:spPr>
            <a:xfrm>
              <a:off x="7430400" y="2437200"/>
              <a:ext cx="104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-8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153"/>
            <p:cNvSpPr/>
            <p:nvPr/>
          </p:nvSpPr>
          <p:spPr>
            <a:xfrm>
              <a:off x="7548840" y="224388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154"/>
            <p:cNvSpPr/>
            <p:nvPr/>
          </p:nvSpPr>
          <p:spPr>
            <a:xfrm flipH="1">
              <a:off x="8742960" y="224388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Rectangle 155"/>
            <p:cNvSpPr/>
            <p:nvPr/>
          </p:nvSpPr>
          <p:spPr>
            <a:xfrm>
              <a:off x="7430400" y="2197080"/>
              <a:ext cx="104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-6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156"/>
            <p:cNvSpPr/>
            <p:nvPr/>
          </p:nvSpPr>
          <p:spPr>
            <a:xfrm>
              <a:off x="7548840" y="199728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157"/>
            <p:cNvSpPr/>
            <p:nvPr/>
          </p:nvSpPr>
          <p:spPr>
            <a:xfrm flipH="1">
              <a:off x="8742960" y="199728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158"/>
            <p:cNvSpPr/>
            <p:nvPr/>
          </p:nvSpPr>
          <p:spPr>
            <a:xfrm>
              <a:off x="7430400" y="1950120"/>
              <a:ext cx="104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-4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159"/>
            <p:cNvSpPr/>
            <p:nvPr/>
          </p:nvSpPr>
          <p:spPr>
            <a:xfrm>
              <a:off x="7548840" y="175572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160"/>
            <p:cNvSpPr/>
            <p:nvPr/>
          </p:nvSpPr>
          <p:spPr>
            <a:xfrm flipH="1">
              <a:off x="8742960" y="175572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161"/>
            <p:cNvSpPr/>
            <p:nvPr/>
          </p:nvSpPr>
          <p:spPr>
            <a:xfrm>
              <a:off x="7430400" y="1708560"/>
              <a:ext cx="104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-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62"/>
            <p:cNvSpPr/>
            <p:nvPr/>
          </p:nvSpPr>
          <p:spPr>
            <a:xfrm>
              <a:off x="7548840" y="151524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63"/>
            <p:cNvSpPr/>
            <p:nvPr/>
          </p:nvSpPr>
          <p:spPr>
            <a:xfrm flipH="1">
              <a:off x="8742960" y="1515240"/>
              <a:ext cx="180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164"/>
            <p:cNvSpPr/>
            <p:nvPr/>
          </p:nvSpPr>
          <p:spPr>
            <a:xfrm>
              <a:off x="7493400" y="1468440"/>
              <a:ext cx="40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 Narrow"/>
                  <a:ea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65"/>
            <p:cNvSpPr/>
            <p:nvPr/>
          </p:nvSpPr>
          <p:spPr>
            <a:xfrm>
              <a:off x="7548840" y="1508760"/>
              <a:ext cx="12121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66"/>
            <p:cNvSpPr/>
            <p:nvPr/>
          </p:nvSpPr>
          <p:spPr>
            <a:xfrm>
              <a:off x="7548840" y="1508760"/>
              <a:ext cx="1212120" cy="122220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67"/>
            <p:cNvSpPr/>
            <p:nvPr/>
          </p:nvSpPr>
          <p:spPr>
            <a:xfrm flipV="1">
              <a:off x="7548840" y="1508400"/>
              <a:ext cx="0" cy="1222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8"/>
            <p:cNvSpPr/>
            <p:nvPr/>
          </p:nvSpPr>
          <p:spPr>
            <a:xfrm>
              <a:off x="7555320" y="1614600"/>
              <a:ext cx="1019160" cy="916560"/>
            </a:xfrm>
            <a:prstGeom prst="pie">
              <a:avLst/>
            </a:pr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69"/>
            <p:cNvSpPr/>
            <p:nvPr/>
          </p:nvSpPr>
          <p:spPr>
            <a:xfrm>
              <a:off x="7555320" y="1614600"/>
              <a:ext cx="1019160" cy="916560"/>
            </a:xfrm>
            <a:prstGeom prst="pi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70"/>
            <p:cNvSpPr/>
            <p:nvPr/>
          </p:nvSpPr>
          <p:spPr>
            <a:xfrm>
              <a:off x="7555320" y="1668240"/>
              <a:ext cx="1019160" cy="822600"/>
            </a:xfrm>
            <a:prstGeom prst="pie">
              <a:avLst/>
            </a:prstGeom>
            <a:noFill/>
            <a:ln w="1440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Text Box 173"/>
          <p:cNvSpPr/>
          <p:nvPr/>
        </p:nvSpPr>
        <p:spPr>
          <a:xfrm>
            <a:off x="4290840" y="2825640"/>
            <a:ext cx="87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 (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41"/>
          <p:cNvSpPr/>
          <p:nvPr/>
        </p:nvSpPr>
        <p:spPr>
          <a:xfrm>
            <a:off x="4389480" y="1254240"/>
            <a:ext cx="5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343"/>
          <p:cNvSpPr/>
          <p:nvPr/>
        </p:nvSpPr>
        <p:spPr>
          <a:xfrm>
            <a:off x="5929200" y="1254240"/>
            <a:ext cx="11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polar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73"/>
          <p:cNvSpPr/>
          <p:nvPr/>
        </p:nvSpPr>
        <p:spPr>
          <a:xfrm>
            <a:off x="5989680" y="2825640"/>
            <a:ext cx="87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 (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173"/>
          <p:cNvSpPr/>
          <p:nvPr/>
        </p:nvSpPr>
        <p:spPr>
          <a:xfrm>
            <a:off x="7761240" y="2836800"/>
            <a:ext cx="87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 (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Picture 736" descr="cross_spectrum.jpg"/>
          <p:cNvPicPr/>
          <p:nvPr/>
        </p:nvPicPr>
        <p:blipFill>
          <a:blip r:embed="rId1"/>
          <a:srcRect l="0" t="0" r="48924" b="49226"/>
          <a:stretch/>
        </p:blipFill>
        <p:spPr>
          <a:xfrm>
            <a:off x="5719680" y="3468600"/>
            <a:ext cx="1567080" cy="123840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737" descr="cross_spectrum.jpg"/>
          <p:cNvPicPr/>
          <p:nvPr/>
        </p:nvPicPr>
        <p:blipFill>
          <a:blip r:embed="rId2"/>
          <a:srcRect l="48221" t="50446" r="0" b="0"/>
          <a:stretch/>
        </p:blipFill>
        <p:spPr>
          <a:xfrm>
            <a:off x="3857760" y="3438360"/>
            <a:ext cx="1587240" cy="12099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741" descr="cross_spectrum.jpg"/>
          <p:cNvPicPr/>
          <p:nvPr/>
        </p:nvPicPr>
        <p:blipFill>
          <a:blip r:embed="rId3"/>
          <a:srcRect l="48438" t="0" r="0" b="49226"/>
          <a:stretch/>
        </p:blipFill>
        <p:spPr>
          <a:xfrm>
            <a:off x="7348680" y="3468600"/>
            <a:ext cx="1581120" cy="123840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742"/>
          <p:cNvSpPr/>
          <p:nvPr/>
        </p:nvSpPr>
        <p:spPr>
          <a:xfrm>
            <a:off x="4286160" y="3468600"/>
            <a:ext cx="92880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743"/>
          <p:cNvSpPr/>
          <p:nvPr/>
        </p:nvSpPr>
        <p:spPr>
          <a:xfrm>
            <a:off x="6031080" y="3427560"/>
            <a:ext cx="92844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44"/>
          <p:cNvSpPr/>
          <p:nvPr/>
        </p:nvSpPr>
        <p:spPr>
          <a:xfrm>
            <a:off x="7786800" y="3468600"/>
            <a:ext cx="928440" cy="14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173"/>
          <p:cNvSpPr/>
          <p:nvPr/>
        </p:nvSpPr>
        <p:spPr>
          <a:xfrm>
            <a:off x="3929040" y="3286080"/>
            <a:ext cx="1714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uto-spectral den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73"/>
          <p:cNvSpPr/>
          <p:nvPr/>
        </p:nvSpPr>
        <p:spPr>
          <a:xfrm>
            <a:off x="5786280" y="3286080"/>
            <a:ext cx="1714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uto-spectral den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173"/>
          <p:cNvSpPr/>
          <p:nvPr/>
        </p:nvSpPr>
        <p:spPr>
          <a:xfrm>
            <a:off x="7286760" y="3286080"/>
            <a:ext cx="2071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ross-spectral dens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A1-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46"/>
          <p:cNvSpPr/>
          <p:nvPr/>
        </p:nvSpPr>
        <p:spPr>
          <a:xfrm>
            <a:off x="4492800" y="4570560"/>
            <a:ext cx="4071600" cy="1425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73"/>
          <p:cNvSpPr/>
          <p:nvPr/>
        </p:nvSpPr>
        <p:spPr>
          <a:xfrm>
            <a:off x="4071960" y="4540320"/>
            <a:ext cx="12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equency (H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173"/>
          <p:cNvSpPr/>
          <p:nvPr/>
        </p:nvSpPr>
        <p:spPr>
          <a:xfrm>
            <a:off x="5857920" y="4540320"/>
            <a:ext cx="12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equency (H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73"/>
          <p:cNvSpPr/>
          <p:nvPr/>
        </p:nvSpPr>
        <p:spPr>
          <a:xfrm>
            <a:off x="7572240" y="4540320"/>
            <a:ext cx="128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requency (Hz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749"/>
          <p:cNvSpPr/>
          <p:nvPr/>
        </p:nvSpPr>
        <p:spPr>
          <a:xfrm>
            <a:off x="3873600" y="3724200"/>
            <a:ext cx="14292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750"/>
          <p:cNvSpPr/>
          <p:nvPr/>
        </p:nvSpPr>
        <p:spPr>
          <a:xfrm>
            <a:off x="5643720" y="3754440"/>
            <a:ext cx="14256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751"/>
          <p:cNvSpPr/>
          <p:nvPr/>
        </p:nvSpPr>
        <p:spPr>
          <a:xfrm>
            <a:off x="7358040" y="3683160"/>
            <a:ext cx="1429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43"/>
          <p:cNvSpPr/>
          <p:nvPr/>
        </p:nvSpPr>
        <p:spPr>
          <a:xfrm>
            <a:off x="7143840" y="1254240"/>
            <a:ext cx="20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and 2d order mo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180" descr="science?_ob=MiamiCaptionURL&amp;_method=retrieve&amp;_udi=B6WNP-4S575VF-1&amp;_image=B6WNP-4S575VF-1-12&amp;_ba=&amp;_user=125795&amp;_rdoc=1&amp;_fmt=full&amp;_orig=search&amp;_cdi=6968&amp;view=c&amp;_isHiQual=Y&amp;_acct=C000010182&amp;_version=1&amp;_urlVersion=0&amp;_userid=125795&amp;md5=fc19184170ae1ac808d3916cd7268310"/>
          <p:cNvPicPr/>
          <p:nvPr/>
        </p:nvPicPr>
        <p:blipFill>
          <a:blip r:embed="rId4"/>
          <a:srcRect l="72169" t="69173" r="7563" b="4044"/>
          <a:stretch/>
        </p:blipFill>
        <p:spPr>
          <a:xfrm>
            <a:off x="4214880" y="5214960"/>
            <a:ext cx="1714320" cy="15001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" descr=""/>
          <p:cNvPicPr/>
          <p:nvPr/>
        </p:nvPicPr>
        <p:blipFill>
          <a:blip r:embed="rId5"/>
          <a:stretch/>
        </p:blipFill>
        <p:spPr>
          <a:xfrm>
            <a:off x="6261120" y="5294160"/>
            <a:ext cx="2546280" cy="1247760"/>
          </a:xfrm>
          <a:prstGeom prst="rect">
            <a:avLst/>
          </a:prstGeom>
          <a:ln w="0">
            <a:noFill/>
          </a:ln>
        </p:spPr>
      </p:pic>
      <p:sp>
        <p:nvSpPr>
          <p:cNvPr id="362" name="Text Box 2"/>
          <p:cNvSpPr/>
          <p:nvPr/>
        </p:nvSpPr>
        <p:spPr>
          <a:xfrm>
            <a:off x="-36360" y="620640"/>
            <a:ext cx="77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(possibly data featur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6120" y="0"/>
            <a:ext cx="47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do we need for DC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108000" y="647640"/>
            <a:ext cx="8535960" cy="6021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3492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H model – the 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rcRect l="16604" t="2342" r="18581" b="5343"/>
          <a:stretch/>
        </p:blipFill>
        <p:spPr>
          <a:xfrm>
            <a:off x="5508720" y="765000"/>
            <a:ext cx="2808360" cy="575964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183960" y="907920"/>
            <a:ext cx="4486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xponential with 1-para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itzHugh-Nagumo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Hodgkin-Huxley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3492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And the winner is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9280" y="4292640"/>
            <a:ext cx="48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Very different models can be compared as long as the data is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3492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However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" descr=""/>
          <p:cNvPicPr/>
          <p:nvPr/>
        </p:nvPicPr>
        <p:blipFill>
          <a:blip r:embed="rId1"/>
          <a:srcRect l="16512" t="2189" r="21912" b="5472"/>
          <a:stretch/>
        </p:blipFill>
        <p:spPr>
          <a:xfrm>
            <a:off x="5653080" y="692280"/>
            <a:ext cx="2664000" cy="5761080"/>
          </a:xfrm>
          <a:prstGeom prst="rect">
            <a:avLst/>
          </a:prstGeom>
          <a:ln w="0">
            <a:noFill/>
          </a:ln>
        </p:spPr>
      </p:pic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-181080" y="549360"/>
            <a:ext cx="6105600" cy="42195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324000" y="4935600"/>
            <a:ext cx="4824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The result of model comparison can be different for differen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"/>
          <p:cNvSpPr/>
          <p:nvPr/>
        </p:nvSpPr>
        <p:spPr>
          <a:xfrm>
            <a:off x="3492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185400" y="549360"/>
            <a:ext cx="848988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in principle of DCM is the use of data and generative models in a Bayesian framework to infer parameters and compare mode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ation details may v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 inversion is an optimization procedure where the objective function is the free energy which approximates the model evi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 evidence is the goodness of fit expected under the prior parameter val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est model is the one with precise priors that yield good fit to th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meters not affecting the model fit stay at their priors and do not affect the model evid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ery different models can be compared as long as they were fitted to the same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s and priors can be gradually refined from one study to the next, making it possible to use DCM as an integrative framework in neurosc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6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6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6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6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6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3"/>
          <p:cNvSpPr/>
          <p:nvPr/>
        </p:nvSpPr>
        <p:spPr>
          <a:xfrm>
            <a:off x="177120" y="855720"/>
            <a:ext cx="524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 cannot cre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do not understand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062160" y="2708280"/>
            <a:ext cx="226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hard P. Feyn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748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pilog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5280" y="4700520"/>
            <a:ext cx="833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must have a generative model for the data to use D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4" descr="Feynman Stamp"/>
          <p:cNvPicPr/>
          <p:nvPr/>
        </p:nvPicPr>
        <p:blipFill>
          <a:blip r:embed="rId1"/>
          <a:stretch/>
        </p:blipFill>
        <p:spPr>
          <a:xfrm>
            <a:off x="6084720" y="1125360"/>
            <a:ext cx="256248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230040" y="1995480"/>
            <a:ext cx="8518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irst principle is that you must not fool yourself - and you are the easiest person to fool. So you have to be very careful about that. After you've not fooled yourself, it's easy not to fool other scientis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380560" y="4443480"/>
            <a:ext cx="336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ichard P. Feyn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rom “Cargo cult science”, 19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87480" y="-27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  <a:ea typeface="Arial"/>
              </a:rPr>
              <a:t>Epilogu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29760" y="148392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600" spc="-1" strike="noStrike">
                <a:solidFill>
                  <a:srgbClr val="004359"/>
                </a:solidFill>
                <a:latin typeface="Arial"/>
              </a:rPr>
              <a:t>Thank you for your attention</a:t>
            </a:r>
            <a:endParaRPr b="1" lang="en-US" sz="4600" spc="-1" strike="noStrike">
              <a:solidFill>
                <a:srgbClr val="004359"/>
              </a:solidFill>
              <a:latin typeface="Arial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2633760" y="2720880"/>
            <a:ext cx="380988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3"/>
          <p:cNvSpPr/>
          <p:nvPr/>
        </p:nvSpPr>
        <p:spPr>
          <a:xfrm>
            <a:off x="-5040" y="0"/>
            <a:ext cx="68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do we need for DCM (in this talk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1476360" y="1052640"/>
            <a:ext cx="6064200" cy="19936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08000" y="3355920"/>
            <a:ext cx="4608360" cy="28418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5361120" y="3213000"/>
            <a:ext cx="3458880" cy="313524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88000" y="4508640"/>
            <a:ext cx="647640" cy="863640"/>
          </a:xfrm>
          <a:prstGeom prst="rightArrow">
            <a:avLst>
              <a:gd name="adj1" fmla="val 50000"/>
              <a:gd name="adj2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324000" y="692280"/>
            <a:ext cx="77104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Generative model for the data (featur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ually represented by a system of differ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n usually be divided into two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 Model of the underlying neur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- Measurement-specific observation model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so includes specification of the input(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 values for model parameters (prior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Specification includes the most likely value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ec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riors are part of the model. Changing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ors changes the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2880" y="-27000"/>
            <a:ext cx="47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do we need for DC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987640" y="1125360"/>
                <a:ext cx="2576520" cy="76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2" name="Text Box 3"/>
          <p:cNvSpPr/>
          <p:nvPr/>
        </p:nvSpPr>
        <p:spPr>
          <a:xfrm>
            <a:off x="-5760" y="-2700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really simple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262760" y="2800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826920" y="2492280"/>
            <a:ext cx="3600720" cy="144720"/>
            <a:chOff x="826920" y="2492280"/>
            <a:chExt cx="3600720" cy="144720"/>
          </a:xfrm>
        </p:grpSpPr>
        <p:sp>
          <p:nvSpPr>
            <p:cNvPr id="375" name=""/>
            <p:cNvSpPr/>
            <p:nvPr/>
          </p:nvSpPr>
          <p:spPr>
            <a:xfrm>
              <a:off x="826920" y="2565360"/>
              <a:ext cx="360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427640" y="24922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851280" y="2565360"/>
              <a:ext cx="289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916360" y="2565360"/>
              <a:ext cx="5792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68440" y="2565360"/>
              <a:ext cx="115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4427280" y="2492280"/>
            <a:ext cx="3600360" cy="144720"/>
            <a:chOff x="4427280" y="2492280"/>
            <a:chExt cx="3600360" cy="144720"/>
          </a:xfrm>
        </p:grpSpPr>
        <p:sp>
          <p:nvSpPr>
            <p:cNvPr id="381" name=""/>
            <p:cNvSpPr/>
            <p:nvPr/>
          </p:nvSpPr>
          <p:spPr>
            <a:xfrm flipH="1">
              <a:off x="4427280" y="2565360"/>
              <a:ext cx="360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27280" y="2492280"/>
              <a:ext cx="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4714920" y="256536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5359680" y="2565360"/>
              <a:ext cx="578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6228000" y="2565360"/>
              <a:ext cx="11584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4356000" y="249228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308720" y="2492280"/>
            <a:ext cx="14472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01640" y="3429000"/>
            <a:ext cx="1850760" cy="987480"/>
            <a:chOff x="701640" y="3429000"/>
            <a:chExt cx="1850760" cy="987480"/>
          </a:xfrm>
        </p:grpSpPr>
        <mc:AlternateContent>
          <mc:Choice xmlns:a14="http://schemas.microsoft.com/office/drawing/2010/main" Requires="a14">
            <p:sp>
              <p:nvSpPr>
                <p:cNvPr id="389" name=""/>
                <p:cNvSpPr txBox="1"/>
                <p:nvPr/>
              </p:nvSpPr>
              <p:spPr>
                <a:xfrm>
                  <a:off x="701640" y="3933720"/>
                  <a:ext cx="152244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(</m:t>
                      </m:r>
                      <m:r>
                        <m:t xml:space="preserve">t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kt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90" name=""/>
            <p:cNvSpPr/>
            <p:nvPr/>
          </p:nvSpPr>
          <p:spPr>
            <a:xfrm>
              <a:off x="724320" y="342900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alytic 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783960" y="3429000"/>
            <a:ext cx="4896360" cy="2182680"/>
            <a:chOff x="3783960" y="3429000"/>
            <a:chExt cx="4896360" cy="2182680"/>
          </a:xfrm>
        </p:grpSpPr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3851280" y="3933720"/>
                  <a:ext cx="4829040" cy="1677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0</m:t>
                              </m:r>
                            </m:sub>
                          </m:sSub>
                        </m:e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Δ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Δt</m:t>
                          </m:r>
                        </m:e>
                        <m:e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  <m:r>
                            <m:t xml:space="preserve">Δt</m:t>
                          </m:r>
                          <m:r>
                            <m:t xml:space="preserve">)</m:t>
                          </m:r>
                          <m:r>
                            <m:t xml:space="preserve">=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Δt</m:t>
                          </m:r>
                          <m:r>
                            <m:t xml:space="preserve">)</m:t>
                          </m:r>
                          <m:r>
                            <m:t xml:space="preserve">−</m:t>
                          </m:r>
                          <m:r>
                            <m:t xml:space="preserve">k</m:t>
                          </m:r>
                          <m:r>
                            <m:t xml:space="preserve">⋅</m:t>
                          </m:r>
                          <m:r>
                            <m:t xml:space="preserve">x</m:t>
                          </m:r>
                          <m:r>
                            <m:t xml:space="preserve">(</m:t>
                          </m:r>
                          <m:r>
                            <m:t xml:space="preserve">0</m:t>
                          </m:r>
                          <m:r>
                            <m:t xml:space="preserve">+</m:t>
                          </m:r>
                          <m:r>
                            <m:t xml:space="preserve">Δt</m:t>
                          </m:r>
                          <m:r>
                            <m:t xml:space="preserve">)</m:t>
                          </m:r>
                          <m:r>
                            <m:t xml:space="preserve">⋅</m:t>
                          </m:r>
                          <m:r>
                            <m:t xml:space="preserve">Δt</m:t>
                          </m:r>
                        </m:e>
                        <m:e>
                          <m:r>
                            <m:t xml:space="preserve">⋯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393" name=""/>
            <p:cNvSpPr/>
            <p:nvPr/>
          </p:nvSpPr>
          <p:spPr>
            <a:xfrm>
              <a:off x="3783960" y="3429000"/>
              <a:ext cx="205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ical 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" name=""/>
          <p:cNvGrpSpPr/>
          <p:nvPr/>
        </p:nvGrpSpPr>
        <p:grpSpPr>
          <a:xfrm>
            <a:off x="395280" y="4340160"/>
            <a:ext cx="2808360" cy="2546280"/>
            <a:chOff x="395280" y="4340160"/>
            <a:chExt cx="2808360" cy="2546280"/>
          </a:xfrm>
        </p:grpSpPr>
        <p:pic>
          <p:nvPicPr>
            <p:cNvPr id="395" name="" descr=""/>
            <p:cNvPicPr/>
            <p:nvPr/>
          </p:nvPicPr>
          <p:blipFill>
            <a:blip r:embed="rId1"/>
            <a:srcRect l="0" t="0" r="2023" b="0"/>
            <a:stretch/>
          </p:blipFill>
          <p:spPr>
            <a:xfrm>
              <a:off x="395280" y="4340160"/>
              <a:ext cx="2808360" cy="232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466560" y="4379760"/>
              <a:ext cx="287640" cy="20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6720" y="53006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753920" y="651816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-2.59259E-006 L -0.11805 -2.59259E-006 E">
                                      <p:cBhvr>
                                        <p:cTn id="22" dur="5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1806 -2.59259E-006 L -0.18906 -2.59259E-006 E">
                                      <p:cBhvr>
                                        <p:cTn id="25" dur="1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8906 -2.59259E-006 L -0.26771 -2.59259E-006 E">
                                      <p:cBhvr>
                                        <p:cTn id="28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6771 -2.59259E-006 L -0.32292 -2.59259E-006 E">
                                      <p:cBhvr>
                                        <p:cTn id="31" dur="3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1187280" y="1484280"/>
                <a:ext cx="219420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k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330840" y="728640"/>
            <a:ext cx="39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ural’ equation (exponential dec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1230480" y="2205000"/>
                <a:ext cx="18000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Δ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55640" y="4149720"/>
            <a:ext cx="2592360" cy="239220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547640" y="4437000"/>
            <a:ext cx="71640" cy="1800360"/>
          </a:xfrm>
          <a:custGeom>
            <a:avLst/>
            <a:gdLst>
              <a:gd name="textAreaLeft" fmla="*/ 0 w 71640"/>
              <a:gd name="textAreaRight" fmla="*/ 25920 w 7164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573200" y="5059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428840" y="630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66480" y="64468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20960" y="3925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2"/>
          <a:srcRect l="0" t="0" r="2023" b="0"/>
          <a:stretch/>
        </p:blipFill>
        <p:spPr>
          <a:xfrm>
            <a:off x="5292720" y="4181400"/>
            <a:ext cx="2808360" cy="23288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662520" y="393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4211640" y="2852640"/>
                <a:ext cx="603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1" name=""/>
          <p:cNvSpPr/>
          <p:nvPr/>
        </p:nvSpPr>
        <p:spPr>
          <a:xfrm>
            <a:off x="647640" y="4221000"/>
            <a:ext cx="43200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364000" y="4221000"/>
            <a:ext cx="287640" cy="20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3477240" y="3002400"/>
            <a:ext cx="1846080" cy="1248840"/>
            <a:chOff x="3477240" y="3002400"/>
            <a:chExt cx="1846080" cy="1248840"/>
          </a:xfrm>
        </p:grpSpPr>
        <p:sp>
          <p:nvSpPr>
            <p:cNvPr id="414" name=""/>
            <p:cNvSpPr/>
            <p:nvPr/>
          </p:nvSpPr>
          <p:spPr>
            <a:xfrm rot="1800000">
              <a:off x="3485880" y="3446640"/>
              <a:ext cx="1872720" cy="360360"/>
            </a:xfrm>
            <a:prstGeom prst="rightArrow">
              <a:avLst>
                <a:gd name="adj1" fmla="val 50000"/>
                <a:gd name="adj2" fmla="val 12992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1800000">
              <a:off x="3439080" y="3383640"/>
              <a:ext cx="159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ical integ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5583960" y="72864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servation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5854680" y="1508040"/>
                <a:ext cx="141120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G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18" name="Text Box 3"/>
          <p:cNvSpPr/>
          <p:nvPr/>
        </p:nvSpPr>
        <p:spPr>
          <a:xfrm>
            <a:off x="-5760" y="-27000"/>
            <a:ext cx="421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A really simple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 Box 3"/>
          <p:cNvSpPr/>
          <p:nvPr/>
        </p:nvSpPr>
        <p:spPr>
          <a:xfrm>
            <a:off x="-33840" y="-27000"/>
            <a:ext cx="239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n simp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0" name=""/>
              <p:cNvSpPr txBox="1"/>
              <p:nvPr/>
            </p:nvSpPr>
            <p:spPr>
              <a:xfrm>
                <a:off x="941400" y="1484280"/>
                <a:ext cx="26859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7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1" name=""/>
          <p:cNvSpPr/>
          <p:nvPr/>
        </p:nvSpPr>
        <p:spPr>
          <a:xfrm>
            <a:off x="330840" y="728640"/>
            <a:ext cx="394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eural’ equation (exponential deca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2" name=""/>
              <p:cNvSpPr txBox="1"/>
              <p:nvPr/>
            </p:nvSpPr>
            <p:spPr>
              <a:xfrm>
                <a:off x="1109520" y="2205000"/>
                <a:ext cx="210024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50</m:t>
                    </m:r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t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Δ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23" name="" descr=""/>
          <p:cNvPicPr/>
          <p:nvPr/>
        </p:nvPicPr>
        <p:blipFill>
          <a:blip r:embed="rId1"/>
          <a:stretch/>
        </p:blipFill>
        <p:spPr>
          <a:xfrm>
            <a:off x="755640" y="4149720"/>
            <a:ext cx="2592360" cy="239220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 flipV="1">
            <a:off x="1428840" y="6308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266480" y="6446880"/>
            <a:ext cx="31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920960" y="3925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rcRect l="0" t="0" r="2023" b="0"/>
          <a:stretch/>
        </p:blipFill>
        <p:spPr>
          <a:xfrm>
            <a:off x="5292720" y="4181400"/>
            <a:ext cx="2808360" cy="232884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662520" y="3933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583960" y="728640"/>
            <a:ext cx="23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bservation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5935680" y="1508040"/>
                <a:ext cx="12477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1495800" y="6524640"/>
            <a:ext cx="185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- the only free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4211640" y="2852640"/>
                <a:ext cx="603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433" name=""/>
          <p:cNvGrpSpPr/>
          <p:nvPr/>
        </p:nvGrpSpPr>
        <p:grpSpPr>
          <a:xfrm>
            <a:off x="3477240" y="3002400"/>
            <a:ext cx="1846080" cy="1248840"/>
            <a:chOff x="3477240" y="3002400"/>
            <a:chExt cx="1846080" cy="1248840"/>
          </a:xfrm>
        </p:grpSpPr>
        <p:sp>
          <p:nvSpPr>
            <p:cNvPr id="434" name=""/>
            <p:cNvSpPr/>
            <p:nvPr/>
          </p:nvSpPr>
          <p:spPr>
            <a:xfrm rot="1800000">
              <a:off x="3485880" y="3446640"/>
              <a:ext cx="1872720" cy="360360"/>
            </a:xfrm>
            <a:prstGeom prst="rightArrow">
              <a:avLst>
                <a:gd name="adj1" fmla="val 50000"/>
                <a:gd name="adj2" fmla="val 12992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1800000">
              <a:off x="3439080" y="3383640"/>
              <a:ext cx="159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umerical integr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324000" y="692280"/>
            <a:ext cx="849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 Optimization scheme for fitting the parameter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objective function for optimization is the free energy which approximates the (log) model evid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re are many possible schemes based on different assumptions. Present DCM implementations in SPM use variational Bayesian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ce the scheme converges it yie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ighest value of free energy the scheme could attai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Posterior distribution of the free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imulated data as similar to the original data as the model cou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ener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3"/>
          <p:cNvSpPr/>
          <p:nvPr/>
        </p:nvSpPr>
        <p:spPr>
          <a:xfrm>
            <a:off x="2880" y="-27000"/>
            <a:ext cx="477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hat do we need for DC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8" name="Object 20"/>
          <p:cNvGraphicFramePr/>
          <p:nvPr/>
        </p:nvGraphicFramePr>
        <p:xfrm>
          <a:off x="1835280" y="2205000"/>
          <a:ext cx="5903640" cy="11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9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2205000"/>
                    <a:ext cx="5903640" cy="11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7T21:20:15Z</dcterms:created>
  <dc:creator>Vladimir Litvak</dc:creator>
  <dc:description/>
  <dc:language>en-US</dc:language>
  <cp:lastModifiedBy>Guest</cp:lastModifiedBy>
  <dcterms:modified xsi:type="dcterms:W3CDTF">2010-05-10T07:32:03Z</dcterms:modified>
  <cp:revision>136</cp:revision>
  <dc:subject/>
  <dc:title>Slide 1</dc:title>
</cp:coreProperties>
</file>