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083-0DB2-4153-9622-ECCD3AA5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5F1-EDF9-4120-B351-F7DBA87F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BDC-EE49-4392-85A7-F206FF6E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54F-A1B6-41F7-B2CC-8F547C28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48C4-C5EE-4E5A-B414-3EA90F63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080E-C7DB-4301-84A1-3894D8B3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BA36-9B99-46C2-A872-5FED889F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CA17-9253-4C7B-8CAE-C0695F8B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40DA-D9DF-4D44-A806-B13EF10B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10E0-A323-4211-9B76-D1630647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3611-4873-4CBB-8BFF-DFA7DF2E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28D-5AC7-4B98-8AC2-4FA437E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9A9B-242B-47A2-82DD-A46565A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3E11-9E55-47ED-AFF4-67223DD5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3B8B-3202-40CA-A0B3-57C51FC8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7B6F-0970-4C16-A2AC-78DCB933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B74E-182C-43A8-8665-1149CC17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718-0F1C-4E7F-9235-67F4D7CC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DDC-3577-47DF-B895-9C9DC224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FDA-EC0C-4D3B-9C9E-D8EFAA9B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448-1147-4D72-A969-F8772F79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6DD-782E-45C5-8D7A-4A243F47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BEE-7E66-4E47-A0F9-91E0DB1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1E6-EC16-44F6-893C-56787375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7359-68D6-4DB8-865B-88461B13920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7720" y="3340080"/>
            <a:ext cx="829152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9400-2CA6-4A26-8DDB-F5ECF58B4BA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353280" y="158760"/>
            <a:ext cx="3363840" cy="1968480"/>
          </a:xfrm>
          <a:prstGeom prst="rect">
            <a:avLst/>
          </a:prstGeom>
          <a:solidFill>
            <a:srgbClr val="a9bda9"/>
          </a:solidFill>
          <a:ln w="12600">
            <a:solidFill>
              <a:srgbClr val="c1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32560" y="415800"/>
            <a:ext cx="3165480" cy="1689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4840" y="4416480"/>
            <a:ext cx="1647720" cy="530280"/>
          </a:xfrm>
          <a:prstGeom prst="rect">
            <a:avLst/>
          </a:prstGeom>
          <a:solidFill>
            <a:srgbClr val="a9bda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71840" y="2733840"/>
            <a:ext cx="2562480" cy="1103040"/>
          </a:xfrm>
          <a:prstGeom prst="rect">
            <a:avLst/>
          </a:prstGeom>
          <a:solidFill>
            <a:srgbClr val="a9bda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9000" y="2716200"/>
            <a:ext cx="1895400" cy="1179360"/>
          </a:xfrm>
          <a:prstGeom prst="rect">
            <a:avLst/>
          </a:prstGeom>
          <a:solidFill>
            <a:srgbClr val="a9bda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38560" y="2928960"/>
            <a:ext cx="1511280" cy="700200"/>
          </a:xfrm>
          <a:prstGeom prst="rect">
            <a:avLst/>
          </a:prstGeom>
          <a:solidFill>
            <a:srgbClr val="a9bda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4920" y="2847960"/>
            <a:ext cx="17722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realignment</a:t>
            </a:r>
            <a:r>
              <a:rPr b="1" lang="en-US" sz="2000" spc="-1" strike="noStrike">
                <a:solidFill>
                  <a:srgbClr val="004c2b"/>
                </a:solidFill>
                <a:latin typeface="Times New Roman"/>
              </a:rPr>
              <a:t> &amp;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motion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correc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19920" y="3084480"/>
            <a:ext cx="131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smooth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0360" y="4503600"/>
            <a:ext cx="169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normalis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4160" y="2801880"/>
            <a:ext cx="26136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General Linear Mod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3e1b3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model fitting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b3e1b3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atistic imag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22160" y="87480"/>
            <a:ext cx="1379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mage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0760" y="205740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arameter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estimat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7720" y="4724280"/>
            <a:ext cx="917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matrix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440" y="5443560"/>
            <a:ext cx="1353960" cy="1179360"/>
          </a:xfrm>
          <a:prstGeom prst="rect">
            <a:avLst/>
          </a:prstGeom>
          <a:ln w="12600">
            <a:solidFill>
              <a:srgbClr val="c1ce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061720" y="5859360"/>
            <a:ext cx="1385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atomical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268360" y="1514520"/>
            <a:ext cx="1478160" cy="944640"/>
          </a:xfrm>
          <a:prstGeom prst="rect">
            <a:avLst/>
          </a:prstGeom>
          <a:ln w="12600">
            <a:solidFill>
              <a:srgbClr val="c1ceff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2623320" y="118908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kern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3840" y="1798560"/>
            <a:ext cx="0" cy="906480"/>
          </a:xfrm>
          <a:prstGeom prst="line">
            <a:avLst/>
          </a:prstGeom>
          <a:ln w="25560">
            <a:solidFill>
              <a:srgbClr val="bdd7e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09960" y="3319560"/>
            <a:ext cx="214200" cy="144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680080" y="1611000"/>
            <a:ext cx="666720" cy="1128600"/>
          </a:xfrm>
          <a:prstGeom prst="line">
            <a:avLst/>
          </a:prstGeom>
          <a:ln w="25560">
            <a:solidFill>
              <a:srgbClr val="b3e1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72120" y="1781280"/>
            <a:ext cx="0" cy="930240"/>
          </a:xfrm>
          <a:prstGeom prst="line">
            <a:avLst/>
          </a:prstGeom>
          <a:ln w="25560">
            <a:solidFill>
              <a:srgbClr val="bdd7e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38320" y="2484360"/>
            <a:ext cx="0" cy="430200"/>
          </a:xfrm>
          <a:prstGeom prst="line">
            <a:avLst/>
          </a:prstGeom>
          <a:ln w="25560">
            <a:solidFill>
              <a:srgbClr val="bdd7e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70360" y="3327120"/>
            <a:ext cx="484200" cy="2700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319040" y="4933440"/>
            <a:ext cx="0" cy="520920"/>
          </a:xfrm>
          <a:prstGeom prst="line">
            <a:avLst/>
          </a:prstGeom>
          <a:ln w="25560">
            <a:solidFill>
              <a:srgbClr val="bdd7e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52280" y="304920"/>
            <a:ext cx="1981080" cy="2056680"/>
            <a:chOff x="152280" y="304920"/>
            <a:chExt cx="1981080" cy="2056680"/>
          </a:xfrm>
        </p:grpSpPr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152280" y="304920"/>
              <a:ext cx="1336320" cy="1326960"/>
            </a:xfrm>
            <a:prstGeom prst="rect">
              <a:avLst/>
            </a:prstGeom>
            <a:ln w="12600">
              <a:solidFill>
                <a:srgbClr val="c1ceff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313560" y="487080"/>
              <a:ext cx="1336320" cy="1326960"/>
            </a:xfrm>
            <a:prstGeom prst="rect">
              <a:avLst/>
            </a:prstGeom>
            <a:ln w="12600">
              <a:solidFill>
                <a:srgbClr val="c1ceff"/>
              </a:solidFill>
              <a:miter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475200" y="669600"/>
              <a:ext cx="1336320" cy="1326960"/>
            </a:xfrm>
            <a:prstGeom prst="rect">
              <a:avLst/>
            </a:prstGeom>
            <a:ln w="12600">
              <a:solidFill>
                <a:srgbClr val="c1ceff"/>
              </a:solidFill>
              <a:miter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635040" y="852480"/>
              <a:ext cx="1336680" cy="1326960"/>
            </a:xfrm>
            <a:prstGeom prst="rect">
              <a:avLst/>
            </a:prstGeom>
            <a:ln w="12600">
              <a:solidFill>
                <a:srgbClr val="c1ceff"/>
              </a:solidFill>
              <a:miter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796680" y="1034640"/>
              <a:ext cx="1336680" cy="1326960"/>
            </a:xfrm>
            <a:prstGeom prst="rect">
              <a:avLst/>
            </a:prstGeom>
            <a:ln w="12600">
              <a:solidFill>
                <a:srgbClr val="c1ceff"/>
              </a:solidFill>
              <a:miter/>
            </a:ln>
          </p:spPr>
        </p:pic>
      </p:grpSp>
      <p:pic>
        <p:nvPicPr>
          <p:cNvPr id="113" name="" descr=""/>
          <p:cNvPicPr/>
          <p:nvPr/>
        </p:nvPicPr>
        <p:blipFill>
          <a:blip r:embed="rId10"/>
          <a:srcRect l="20371" t="5963" r="11726" b="5166"/>
          <a:stretch/>
        </p:blipFill>
        <p:spPr>
          <a:xfrm>
            <a:off x="4800600" y="4343400"/>
            <a:ext cx="673200" cy="1585800"/>
          </a:xfrm>
          <a:prstGeom prst="rect">
            <a:avLst/>
          </a:prstGeom>
          <a:ln w="12600">
            <a:solidFill>
              <a:srgbClr val="c1ce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6858000" y="4038480"/>
            <a:ext cx="2590920" cy="1981440"/>
          </a:xfrm>
          <a:prstGeom prst="rect">
            <a:avLst/>
          </a:prstGeom>
          <a:ln w="12600">
            <a:solidFill>
              <a:srgbClr val="c1ceff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7081920" y="6019920"/>
            <a:ext cx="2176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robabilistic map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f activation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2080" y="3917880"/>
            <a:ext cx="0" cy="48276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76400" y="3625920"/>
            <a:ext cx="722520" cy="799920"/>
          </a:xfrm>
          <a:prstGeom prst="line">
            <a:avLst/>
          </a:prstGeom>
          <a:ln w="255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48440" y="3854520"/>
            <a:ext cx="0" cy="442800"/>
          </a:xfrm>
          <a:prstGeom prst="line">
            <a:avLst/>
          </a:prstGeom>
          <a:ln w="25560">
            <a:solidFill>
              <a:srgbClr val="b3e1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43800" y="3587760"/>
            <a:ext cx="0" cy="444600"/>
          </a:xfrm>
          <a:prstGeom prst="line">
            <a:avLst/>
          </a:prstGeom>
          <a:ln w="25560">
            <a:solidFill>
              <a:srgbClr val="b3e1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34320" y="2743200"/>
            <a:ext cx="76176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3276720"/>
            <a:ext cx="11430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360" y="304920"/>
            <a:ext cx="27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fMRI dat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c2b"/>
                </a:solidFill>
                <a:latin typeface="Times New Roman"/>
              </a:rPr>
              <a:t>Face processing dat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71680" y="2325600"/>
            <a:ext cx="4267080" cy="2003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24960" y="5562720"/>
            <a:ext cx="62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24 Transverse Slices acquired with TR=2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560" y="487692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Press left key if famous, right key if no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9000" y="6172200"/>
            <a:ext cx="39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ime series of 351 imag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19080" y="2666880"/>
            <a:ext cx="35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Part of larger study look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at factors influencing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prim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1200" y="167652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33"/>
                </a:solidFill>
                <a:latin typeface="Times New Roman"/>
              </a:rPr>
              <a:t>Every face presented twic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7621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R. Henson et al. (200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c2b"/>
                </a:solidFill>
                <a:latin typeface="Times New Roman"/>
              </a:rPr>
              <a:t>Modelling the Signal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0560" y="2141640"/>
            <a:ext cx="4133880" cy="1941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486400" y="1676520"/>
            <a:ext cx="4162320" cy="3122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4200" y="4343400"/>
            <a:ext cx="458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33"/>
                </a:solidFill>
                <a:latin typeface="Times New Roman"/>
              </a:rPr>
              <a:t>Assumption: Neuronal Event Stream i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33"/>
                </a:solidFill>
                <a:latin typeface="Times New Roman"/>
              </a:rPr>
              <a:t>Identical to the Experimental Event Strea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240" y="533520"/>
            <a:ext cx="248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onvolv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event-strea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basis function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o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ccount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th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hemodynami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respons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3581280"/>
            <a:ext cx="4162680" cy="3122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114800" cy="3201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21160" y="152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8:22:08Z</dcterms:created>
  <dc:creator>WDCN</dc:creator>
  <dc:description>SPM Course 1998 - same as for previous year</dc:description>
  <cp:keywords>Statistical Parametric Mapping</cp:keywords>
  <dc:language>en-US</dc:language>
  <cp:lastModifiedBy>wpenny</cp:lastModifiedBy>
  <cp:lastPrinted>2000-12-07T19:07:04Z</cp:lastPrinted>
  <dcterms:modified xsi:type="dcterms:W3CDTF">2006-10-04T08:23:07Z</dcterms:modified>
  <cp:revision>480</cp:revision>
  <dc:subject>SPM Course Overheads</dc:subject>
  <dc:title>Renewl</dc:title>
</cp:coreProperties>
</file>